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93D-2463-48B4-8742-9C8E2780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F52-EA35-44D4-9AF9-81F71BE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077-D235-4A5B-8548-FC8385FA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F62-89F1-4937-B04E-4606DFF1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167-65C5-448F-8F9D-86694E6C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3B0-ECB3-40A7-8E58-F02D5A7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055-1E2F-45E2-A7E9-A2750A6E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2D8-141B-4761-93A3-1588FDE9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CE3-1BBC-4957-AB95-AD190FE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159-46E0-4786-9517-2F1C709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380-4298-443A-8759-5B9CC22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CF2-FB3D-4599-9E6F-C482B14C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DB80-3CB4-43F7-BFF9-A70F6DDB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584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15840"/>
            <a:ext cx="4282920" cy="2876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6920" y="4246560"/>
            <a:ext cx="4282920" cy="2370240"/>
          </a:xfrm>
          <a:prstGeom prst="roundRect">
            <a:avLst>
              <a:gd name="adj" fmla="val 1038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1260360"/>
            <a:ext cx="4282920" cy="231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1440" y="2583000"/>
            <a:ext cx="4133880" cy="1395360"/>
          </a:xfrm>
          <a:prstGeom prst="downArrowCallout">
            <a:avLst>
              <a:gd name="adj1" fmla="val 60080"/>
              <a:gd name="adj2" fmla="val 74065"/>
              <a:gd name="adj3" fmla="val 22588"/>
              <a:gd name="adj4" fmla="val 6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480" y="3814920"/>
            <a:ext cx="3187800" cy="89028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32240" y="3875040"/>
            <a:ext cx="3032280" cy="77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915840"/>
            <a:ext cx="4283280" cy="2876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4246560"/>
            <a:ext cx="4283280" cy="2370240"/>
          </a:xfrm>
          <a:prstGeom prst="roundRect">
            <a:avLst>
              <a:gd name="adj" fmla="val 1038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1260360"/>
            <a:ext cx="4283280" cy="231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6880" y="2583000"/>
            <a:ext cx="4133880" cy="1395360"/>
          </a:xfrm>
          <a:prstGeom prst="downArrowCallout">
            <a:avLst>
              <a:gd name="adj1" fmla="val 60080"/>
              <a:gd name="adj2" fmla="val 74065"/>
              <a:gd name="adj3" fmla="val 22588"/>
              <a:gd name="adj4" fmla="val 6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0280" y="3814920"/>
            <a:ext cx="3187440" cy="89028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8040" y="3875040"/>
            <a:ext cx="3031920" cy="77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2:25:13Z</dcterms:modified>
  <cp:revision>25</cp:revision>
  <dc:subject/>
  <dc:title>スライド 1</dc:title>
</cp:coreProperties>
</file>