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FB4-56D9-4FB0-82BC-82A9383E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001-7372-45D8-A336-C96F7135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F31-402F-4FC4-802E-A5830E57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C84-1402-43A7-97CF-51A7F97B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484-EF86-4EFB-9CD6-BA84DFBD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55B-8407-4CC9-97B7-4FAC2056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4C2-9614-4B51-89FD-6BDFE4D5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763-706C-4532-A63A-3A47A544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A79-3696-49B8-BC65-88FFA91F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DD4-F3A4-4A08-9FB8-DEA2851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3AA-0145-435F-BC8A-7F4BED7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EA7-69F0-4EAB-B6C0-DD4F586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6B25-41D6-492E-AB45-DFC44A0F8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5334120"/>
            <a:ext cx="2828880" cy="12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5334120"/>
            <a:ext cx="2828880" cy="287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6120" y="5334120"/>
            <a:ext cx="2828880" cy="12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56120" y="5334120"/>
            <a:ext cx="2828880" cy="287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0960" y="5334120"/>
            <a:ext cx="2828880" cy="12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0960" y="5334120"/>
            <a:ext cx="2828880" cy="287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" y="3786120"/>
            <a:ext cx="8637480" cy="120168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898560"/>
            <a:ext cx="2828880" cy="4513320"/>
          </a:xfrm>
          <a:prstGeom prst="downArrowCallout">
            <a:avLst>
              <a:gd name="adj1" fmla="val 3815"/>
              <a:gd name="adj2" fmla="val 14310"/>
              <a:gd name="adj3" fmla="val 12549"/>
              <a:gd name="adj4" fmla="val 62718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974880"/>
            <a:ext cx="2671560" cy="312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56120" y="898560"/>
            <a:ext cx="2828880" cy="4513320"/>
          </a:xfrm>
          <a:prstGeom prst="downArrowCallout">
            <a:avLst>
              <a:gd name="adj1" fmla="val 3815"/>
              <a:gd name="adj2" fmla="val 14310"/>
              <a:gd name="adj3" fmla="val 12549"/>
              <a:gd name="adj4" fmla="val 62718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33880" y="974880"/>
            <a:ext cx="2671560" cy="312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60960" y="898560"/>
            <a:ext cx="2828880" cy="4513320"/>
          </a:xfrm>
          <a:prstGeom prst="downArrowCallout">
            <a:avLst>
              <a:gd name="adj1" fmla="val 3815"/>
              <a:gd name="adj2" fmla="val 14310"/>
              <a:gd name="adj3" fmla="val 12549"/>
              <a:gd name="adj4" fmla="val 62718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8720" y="974880"/>
            <a:ext cx="2671920" cy="312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4280" y="4054320"/>
            <a:ext cx="6713640" cy="663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23:58:43Z</dcterms:modified>
  <cp:revision>23</cp:revision>
  <dc:subject/>
  <dc:title>スライド 1</dc:title>
</cp:coreProperties>
</file>