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681-CE98-4E01-92CE-558DC10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A38-1702-43D5-9982-FECDEE3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6F3-59C5-4BEA-88B9-69D56EAD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CDD-957E-41D4-8A51-366F62B1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703-263C-4883-B6E6-2DD275C8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A7B-C68A-412F-81A2-77098E3B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FB3-D343-440E-8E08-36CDA66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865-29F6-4E11-98F1-4B594EE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D57-FEA9-48FE-BF0D-B17F3CE2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25C-44DC-4562-8984-623B68B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69F-4E7F-4906-B96F-897D80B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606-16F3-42CE-B329-B313C2C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388-A6F6-46A1-BAFC-2AC5C298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2960"/>
            <a:ext cx="8637480" cy="570060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78440" y="912960"/>
            <a:ext cx="391140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78440" y="912960"/>
            <a:ext cx="391140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78440" y="912960"/>
            <a:ext cx="3911400" cy="18000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7960" y="1062000"/>
            <a:ext cx="1504800" cy="15051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914400"/>
            <a:ext cx="2828880" cy="18003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1" y="0"/>
                </a:lnTo>
                <a:lnTo>
                  <a:pt x="21600" y="10800"/>
                </a:lnTo>
                <a:lnTo>
                  <a:pt x="186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5" idx="6"/>
            <a:endCxn id="44" idx="1"/>
          </p:cNvCxnSpPr>
          <p:nvPr/>
        </p:nvCxnSpPr>
        <p:spPr>
          <a:xfrm flipV="1">
            <a:off x="4622760" y="1812960"/>
            <a:ext cx="356040" cy="2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lg" type="arrow" w="lg"/>
          </a:ln>
        </p:spPr>
      </p:cxnSp>
      <p:sp>
        <p:nvSpPr>
          <p:cNvPr id="48" name=""/>
          <p:cNvSpPr/>
          <p:nvPr/>
        </p:nvSpPr>
        <p:spPr>
          <a:xfrm>
            <a:off x="263520" y="1201680"/>
            <a:ext cx="254952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8440" y="4811760"/>
            <a:ext cx="391140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78440" y="4811760"/>
            <a:ext cx="391140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78440" y="4811760"/>
            <a:ext cx="3911400" cy="18000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7960" y="4960800"/>
            <a:ext cx="1504800" cy="15051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4813200"/>
            <a:ext cx="2828880" cy="18003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1" y="0"/>
                </a:lnTo>
                <a:lnTo>
                  <a:pt x="21600" y="10800"/>
                </a:lnTo>
                <a:lnTo>
                  <a:pt x="186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6"/>
            <a:endCxn id="51" idx="1"/>
          </p:cNvCxnSpPr>
          <p:nvPr/>
        </p:nvCxnSpPr>
        <p:spPr>
          <a:xfrm flipV="1">
            <a:off x="4622760" y="5711760"/>
            <a:ext cx="356040" cy="2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lg" type="arrow" w="lg"/>
          </a:ln>
        </p:spPr>
      </p:cxnSp>
      <p:sp>
        <p:nvSpPr>
          <p:cNvPr id="55" name=""/>
          <p:cNvSpPr/>
          <p:nvPr/>
        </p:nvSpPr>
        <p:spPr>
          <a:xfrm>
            <a:off x="263520" y="5100480"/>
            <a:ext cx="254952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8440" y="2862360"/>
            <a:ext cx="391140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78440" y="2862360"/>
            <a:ext cx="391140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8440" y="2862360"/>
            <a:ext cx="3911400" cy="18000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7960" y="3011400"/>
            <a:ext cx="1504800" cy="15051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2863800"/>
            <a:ext cx="2828880" cy="18003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1" y="0"/>
                </a:lnTo>
                <a:lnTo>
                  <a:pt x="21600" y="10800"/>
                </a:lnTo>
                <a:lnTo>
                  <a:pt x="186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9" idx="6"/>
            <a:endCxn id="58" idx="1"/>
          </p:cNvCxnSpPr>
          <p:nvPr/>
        </p:nvCxnSpPr>
        <p:spPr>
          <a:xfrm flipV="1">
            <a:off x="4622760" y="3762360"/>
            <a:ext cx="356040" cy="2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lg" type="arrow" w="lg"/>
          </a:ln>
        </p:spPr>
      </p:cxnSp>
      <p:sp>
        <p:nvSpPr>
          <p:cNvPr id="62" name=""/>
          <p:cNvSpPr/>
          <p:nvPr/>
        </p:nvSpPr>
        <p:spPr>
          <a:xfrm>
            <a:off x="263520" y="3151080"/>
            <a:ext cx="254952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4T05:35:29Z</dcterms:modified>
  <cp:revision>24</cp:revision>
  <dc:subject/>
  <dc:title>スライド 1</dc:title>
</cp:coreProperties>
</file>