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256-5281-4DEB-AA2A-C548C71A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1DA-D5DB-4827-B87B-D055FC5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073-056F-4BF3-849F-2037BD57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8FF-6AC7-4AF0-ADE6-5C75D02C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AEB-2381-4768-80B0-5186ED26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5BA-DC95-484E-A79C-FFF92D0A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4B6-29E9-4E74-B342-FAF5C09F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AC7-74C8-4618-B8FC-7890B7FD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DEE-DCC9-48E4-95CC-D555FDE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143-B512-44EA-8CEB-E7FA8BEF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AD3-579B-4807-B37A-BEB8878D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D4A-A889-4B1D-9561-8EABBAFB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EEC0-A726-44F7-9E73-69D5CA539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20880"/>
            <a:ext cx="8637480" cy="5700600"/>
          </a:xfrm>
          <a:prstGeom prst="rect">
            <a:avLst/>
          </a:prstGeom>
          <a:solidFill>
            <a:srgbClr val="b2b2b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1840" y="920880"/>
            <a:ext cx="2808000" cy="18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920880"/>
            <a:ext cx="2808360" cy="18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16160" y="920880"/>
            <a:ext cx="2901960" cy="1858680"/>
          </a:xfrm>
          <a:custGeom>
            <a:avLst/>
            <a:gdLst>
              <a:gd name="textAreaLeft" fmla="*/ 0 w 2901960"/>
              <a:gd name="textAreaRight" fmla="*/ 2902320 w 2901960"/>
              <a:gd name="textAreaTop" fmla="*/ 0 h 1858680"/>
              <a:gd name="textAreaBottom" fmla="*/ 1859040 h 185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1004760"/>
            <a:ext cx="2646360" cy="32400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62840" y="1004760"/>
            <a:ext cx="2646360" cy="32400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9760" y="1004760"/>
            <a:ext cx="2046600" cy="324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1840" y="2836800"/>
            <a:ext cx="280800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2836800"/>
            <a:ext cx="280836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16160" y="2836800"/>
            <a:ext cx="2901960" cy="1859040"/>
          </a:xfrm>
          <a:custGeom>
            <a:avLst/>
            <a:gdLst>
              <a:gd name="textAreaLeft" fmla="*/ 0 w 2901960"/>
              <a:gd name="textAreaRight" fmla="*/ 2902320 w 29019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2921040"/>
            <a:ext cx="2646360" cy="3236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62840" y="2921040"/>
            <a:ext cx="2646360" cy="3236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9760" y="2921040"/>
            <a:ext cx="2046600" cy="323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1840" y="4754520"/>
            <a:ext cx="280800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4754520"/>
            <a:ext cx="280836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6160" y="4762440"/>
            <a:ext cx="2901960" cy="1859040"/>
          </a:xfrm>
          <a:custGeom>
            <a:avLst/>
            <a:gdLst>
              <a:gd name="textAreaLeft" fmla="*/ 0 w 2901960"/>
              <a:gd name="textAreaRight" fmla="*/ 2902320 w 29019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3360" y="4838760"/>
            <a:ext cx="2646360" cy="3236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62840" y="4838760"/>
            <a:ext cx="2646360" cy="3236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9760" y="4838760"/>
            <a:ext cx="2046600" cy="323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1T10:50:13Z</dcterms:modified>
  <cp:revision>12</cp:revision>
  <dc:subject/>
  <dc:title>スライド 1</dc:title>
</cp:coreProperties>
</file>