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F3B-B99C-43FF-9E17-5CB24FF5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334-7E23-4A8C-AE15-3B2154A6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D90-10FE-4E2E-A1DB-69E2DD33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DA7-556F-4691-B011-46F1B3CE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495-8BB9-425C-8132-50A1F960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2D7-20AE-4D83-A1A4-7E3FB462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46D-111E-4CE1-9C36-E3F4530D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CC9-EDC9-4053-81D5-7001979C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7E6-FAA2-4168-9E5E-835F25A8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060-A59F-4481-BAB5-03842E8A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EA7-CAD9-402D-B0D3-17930EBF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9D7-A417-4BFC-A863-6E0ED5AB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C77E-6755-496B-8E37-30621EC0C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17640"/>
            <a:ext cx="8637480" cy="570060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13040" y="917640"/>
            <a:ext cx="2104920" cy="57006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8560" y="917640"/>
            <a:ext cx="1792080" cy="38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35400" y="917640"/>
            <a:ext cx="2104920" cy="57006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92720" y="917640"/>
            <a:ext cx="1792080" cy="38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58120" y="917640"/>
            <a:ext cx="2104920" cy="57006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15080" y="917640"/>
            <a:ext cx="1792440" cy="38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5251320"/>
            <a:ext cx="1366920" cy="1366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4440" y="5251320"/>
            <a:ext cx="7205400" cy="13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3589200" y="5832360"/>
            <a:ext cx="1057320" cy="203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5911560" y="5832360"/>
            <a:ext cx="1057320" cy="203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1870200"/>
            <a:ext cx="1366920" cy="13665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84440" y="1870200"/>
            <a:ext cx="7205400" cy="13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3589200" y="2450880"/>
            <a:ext cx="1057320" cy="203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911560" y="2450880"/>
            <a:ext cx="1057320" cy="203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360" y="3560760"/>
            <a:ext cx="1366920" cy="1366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84440" y="3560760"/>
            <a:ext cx="7205400" cy="13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3589200" y="4141800"/>
            <a:ext cx="1057320" cy="203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5911560" y="4141800"/>
            <a:ext cx="1057320" cy="203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4T05:38:14Z</dcterms:modified>
  <cp:revision>25</cp:revision>
  <dc:subject/>
  <dc:title>スライド 1</dc:title>
</cp:coreProperties>
</file>