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51C-E97E-41D3-A735-F05782F9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0B10-352E-4086-9780-6AC8B6D1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5C4-2919-4BBE-9039-B428C4B1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0FC-DDEE-4184-BCDA-3AE6738E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7FD-1D4C-4BC2-858F-B08834DA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6DF-A5F5-49E6-90BD-5188982D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61F-D22E-4750-9AA7-83E86C34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29C-56F9-4B44-BA40-B08424AE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5B6-9121-435C-980D-9EF2191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E39-6671-4C49-9C7A-F9D2CB9B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167-9DE7-4330-A808-CF2F1D08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8D0-9347-414A-B45C-DDB1DF74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58DF-991C-4363-AB43-4D955305A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4160" y="915840"/>
            <a:ext cx="8637480" cy="5700960"/>
          </a:xfrm>
          <a:prstGeom prst="rect">
            <a:avLst/>
          </a:prstGeom>
          <a:solidFill>
            <a:srgbClr val="c0c0c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0360" y="912960"/>
            <a:ext cx="2105280" cy="21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08360" y="912960"/>
            <a:ext cx="2105280" cy="21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86720" y="912960"/>
            <a:ext cx="2104920" cy="21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86720" y="1268280"/>
            <a:ext cx="2104920" cy="139572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8920" y="5256360"/>
            <a:ext cx="2104920" cy="136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06920" y="5256360"/>
            <a:ext cx="2104920" cy="136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6720" y="5256360"/>
            <a:ext cx="2104920" cy="136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4160" y="5256360"/>
            <a:ext cx="2104920" cy="136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912960"/>
            <a:ext cx="2104920" cy="21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10160" y="1265400"/>
            <a:ext cx="2333520" cy="140004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1400040"/>
              <a:gd name="textAreaBottom" fmla="*/ 1400040 h 14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99" y="0"/>
                </a:lnTo>
                <a:lnTo>
                  <a:pt x="21600" y="10800"/>
                </a:lnTo>
                <a:lnTo>
                  <a:pt x="194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2160" y="1265400"/>
            <a:ext cx="2333520" cy="140004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1400040"/>
              <a:gd name="textAreaBottom" fmla="*/ 1400040 h 14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99" y="0"/>
                </a:lnTo>
                <a:lnTo>
                  <a:pt x="21600" y="10800"/>
                </a:lnTo>
                <a:lnTo>
                  <a:pt x="194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4160" y="1265400"/>
            <a:ext cx="2333520" cy="140004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1400040"/>
              <a:gd name="textAreaBottom" fmla="*/ 1400040 h 14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99" y="0"/>
                </a:lnTo>
                <a:lnTo>
                  <a:pt x="21600" y="10800"/>
                </a:lnTo>
                <a:lnTo>
                  <a:pt x="194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0360" y="3084480"/>
            <a:ext cx="2105280" cy="21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08360" y="3084480"/>
            <a:ext cx="2105280" cy="21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86720" y="3084480"/>
            <a:ext cx="2104920" cy="21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6720" y="3440160"/>
            <a:ext cx="2104920" cy="139536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4160" y="3084480"/>
            <a:ext cx="2104920" cy="21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3436920"/>
            <a:ext cx="2333520" cy="140004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1400040"/>
              <a:gd name="textAreaBottom" fmla="*/ 1400040 h 14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99" y="0"/>
                </a:lnTo>
                <a:lnTo>
                  <a:pt x="21600" y="10800"/>
                </a:lnTo>
                <a:lnTo>
                  <a:pt x="194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32160" y="3436920"/>
            <a:ext cx="2333520" cy="140004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1400040"/>
              <a:gd name="textAreaBottom" fmla="*/ 1400040 h 14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99" y="0"/>
                </a:lnTo>
                <a:lnTo>
                  <a:pt x="21600" y="10800"/>
                </a:lnTo>
                <a:lnTo>
                  <a:pt x="194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4160" y="3436920"/>
            <a:ext cx="2333520" cy="1400040"/>
          </a:xfrm>
          <a:custGeom>
            <a:avLst/>
            <a:gdLst>
              <a:gd name="textAreaLeft" fmla="*/ 0 w 2333520"/>
              <a:gd name="textAreaRight" fmla="*/ 2333880 w 2333520"/>
              <a:gd name="textAreaTop" fmla="*/ 0 h 1400040"/>
              <a:gd name="textAreaBottom" fmla="*/ 1400040 h 14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99" y="0"/>
                </a:lnTo>
                <a:lnTo>
                  <a:pt x="21600" y="10800"/>
                </a:lnTo>
                <a:lnTo>
                  <a:pt x="194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4T05:45:43Z</dcterms:modified>
  <cp:revision>19</cp:revision>
  <dc:subject/>
  <dc:title>スライド 1</dc:title>
</cp:coreProperties>
</file>