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953-C5CC-4777-9931-66828C9A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467-75E7-44C1-9B3F-3B507601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B07-BC2E-4CA0-A376-1A05804A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88E-08A7-4404-8B41-417723BF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011-09D0-4C60-959D-B2C57977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798-EAAF-4644-B8AE-FA3D577E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B8A-AA6B-4892-ACEA-70994162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372-773D-4241-8563-B1C413E5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AE1-746C-4C6D-886D-11A6D6CD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1B6-A219-47E8-BED8-EF8B0630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8DF-FC6D-466D-98E5-63B4CE7B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027-8117-4797-821E-901CF8DF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2D46-6ECF-4B61-B470-5DE7FE22C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912960"/>
            <a:ext cx="8637480" cy="570060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0800000">
            <a:off x="406440" y="2669760"/>
            <a:ext cx="1533600" cy="1825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671560" y="2669760"/>
            <a:ext cx="1533240" cy="1825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4937040" y="2669760"/>
            <a:ext cx="1533600" cy="1825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7202520" y="2669760"/>
            <a:ext cx="1533600" cy="1825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360" y="909720"/>
            <a:ext cx="8637480" cy="1708200"/>
          </a:xfrm>
          <a:prstGeom prst="rect">
            <a:avLst/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360" y="909720"/>
            <a:ext cx="1841400" cy="170820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7840" y="909720"/>
            <a:ext cx="1841400" cy="170820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2960" y="909720"/>
            <a:ext cx="1841760" cy="170820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48440" y="909720"/>
            <a:ext cx="1841400" cy="170820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1770840" y="1688400"/>
            <a:ext cx="1068480" cy="1936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4036320" y="1688400"/>
            <a:ext cx="1068480" cy="1936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6301440" y="1688400"/>
            <a:ext cx="1068480" cy="1936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2360" y="2906640"/>
            <a:ext cx="8637480" cy="1708200"/>
          </a:xfrm>
          <a:prstGeom prst="rect">
            <a:avLst/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360" y="2906640"/>
            <a:ext cx="1841400" cy="170820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7840" y="2906640"/>
            <a:ext cx="1841400" cy="170820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82960" y="2906640"/>
            <a:ext cx="1841760" cy="170820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48440" y="2906640"/>
            <a:ext cx="1841400" cy="170820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1770840" y="3685320"/>
            <a:ext cx="1068480" cy="1936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4036320" y="3685320"/>
            <a:ext cx="1068480" cy="1936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6301440" y="3685320"/>
            <a:ext cx="1068480" cy="1936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2360" y="4903920"/>
            <a:ext cx="8637480" cy="1707840"/>
          </a:xfrm>
          <a:prstGeom prst="rect">
            <a:avLst/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2360" y="4903920"/>
            <a:ext cx="1841400" cy="170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7840" y="4903920"/>
            <a:ext cx="1841400" cy="170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2960" y="4903920"/>
            <a:ext cx="1841760" cy="170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48440" y="4903920"/>
            <a:ext cx="1841400" cy="170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1770840" y="5661720"/>
            <a:ext cx="1068480" cy="1936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036320" y="5661720"/>
            <a:ext cx="1068480" cy="1936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301440" y="5661720"/>
            <a:ext cx="1068480" cy="1936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355680" y="4667040"/>
            <a:ext cx="1635120" cy="1825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2620800" y="4667040"/>
            <a:ext cx="1635120" cy="1825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4886280" y="4667040"/>
            <a:ext cx="1635120" cy="1825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7151760" y="4667040"/>
            <a:ext cx="1635120" cy="1825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1T10:52:53Z</dcterms:modified>
  <cp:revision>20</cp:revision>
  <dc:subject/>
  <dc:title>スライド 1</dc:title>
</cp:coreProperties>
</file>