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116C-FD00-49FF-AE85-0BD7230B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4C02-5F17-41B9-9037-94933605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0B59-905C-4210-B8FA-44B5D7C5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24BD-94C4-455D-A8C0-30C58003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BEA3-2EBB-4C80-806F-FBC6777E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967B-1976-48B9-AA14-5D95D726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DBA0-DFC1-41C8-8A8E-514169A7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CB1E-E426-42A5-BF20-04CB51D1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2E25-887D-45B0-A926-0D264F78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EF0-E2CC-4367-88CA-C82BF6F2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7F89-324C-40AC-971E-B68A40E7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892C-33E3-4706-A0E7-890EAF21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6E3B-B6D4-49EC-A596-F9C69178E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06920" y="2246400"/>
            <a:ext cx="4282920" cy="215892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6200000">
            <a:off x="5668920" y="1184040"/>
            <a:ext cx="2158920" cy="4282920"/>
          </a:xfrm>
          <a:prstGeom prst="flowChartDelay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08720" y="2309760"/>
            <a:ext cx="2479680" cy="92556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4722840" y="4475160"/>
            <a:ext cx="4052880" cy="15271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784920" y="5354640"/>
            <a:ext cx="2104920" cy="12621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06920" y="5354640"/>
            <a:ext cx="2104920" cy="12621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84920" y="4967280"/>
            <a:ext cx="2104920" cy="31284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06920" y="4967280"/>
            <a:ext cx="2104920" cy="31284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368280" y="4475160"/>
            <a:ext cx="4052880" cy="15271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2360" y="2246400"/>
            <a:ext cx="4283280" cy="215892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1314360" y="1183680"/>
            <a:ext cx="2158920" cy="4283280"/>
          </a:xfrm>
          <a:prstGeom prst="flowChartDelay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54160" y="2309760"/>
            <a:ext cx="2479680" cy="92556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5354640"/>
            <a:ext cx="2104920" cy="12621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28920" y="5354640"/>
            <a:ext cx="2104920" cy="12621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2360" y="4967280"/>
            <a:ext cx="2104920" cy="31284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28920" y="4967280"/>
            <a:ext cx="2104920" cy="31284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0800000">
            <a:off x="2098800" y="1385640"/>
            <a:ext cx="1033200" cy="888840"/>
          </a:xfrm>
          <a:custGeom>
            <a:avLst/>
            <a:gdLst>
              <a:gd name="textAreaLeft" fmla="*/ 344160 w 1033200"/>
              <a:gd name="textAreaRight" fmla="*/ 884880 w 1033200"/>
              <a:gd name="textAreaTop" fmla="*/ 511920 h 888840"/>
              <a:gd name="textAreaBottom" fmla="*/ 761400 h 888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rot="10800000">
            <a:off x="6009120" y="1385640"/>
            <a:ext cx="1033560" cy="888840"/>
          </a:xfrm>
          <a:custGeom>
            <a:avLst/>
            <a:gdLst>
              <a:gd name="textAreaLeft" fmla="*/ 344160 w 1033560"/>
              <a:gd name="textAreaRight" fmla="*/ 884880 w 1033560"/>
              <a:gd name="textAreaTop" fmla="*/ 511920 h 888840"/>
              <a:gd name="textAreaBottom" fmla="*/ 761400 h 888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98720" y="915840"/>
            <a:ext cx="3346560" cy="126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98720" y="915840"/>
            <a:ext cx="3346560" cy="28764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13T00:22:10Z</dcterms:modified>
  <cp:revision>24</cp:revision>
  <dc:subject/>
  <dc:title>スライド 1</dc:title>
</cp:coreProperties>
</file>