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7A41-960F-4953-94F0-0B6A9952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6E85-28DB-483F-8FDA-DA774E22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ACEA-0518-497E-81B7-6361D49A2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32EA-527C-47FA-AE31-E7E40C88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4B45-8C9A-4BA4-A580-72F7C040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632A-9A89-4084-9BE1-0DEC42A7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FCE2-4E12-430F-AB48-B37B514D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B812-995F-4D6A-AE3C-58AB9526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DE00-F69F-407D-B9FA-5223EBBA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58C4-151B-4F4E-A5DD-ED3F7599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90FC-6E0F-46A1-A2E0-8BC41106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2902-0465-44FA-8DBE-67BD5BB4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91A8-D30C-44D9-B077-9E19F0168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0800000">
            <a:off x="3363840" y="4179600"/>
            <a:ext cx="2416320" cy="29844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4160" y="3735360"/>
            <a:ext cx="8637480" cy="3780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4160" y="2417760"/>
            <a:ext cx="2646360" cy="12510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5600" y="2417760"/>
            <a:ext cx="2644920" cy="30780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45280" y="2417760"/>
            <a:ext cx="2646360" cy="12510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6720" y="2417760"/>
            <a:ext cx="2644920" cy="30780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7920" y="2417760"/>
            <a:ext cx="2646360" cy="12510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9" idx="1"/>
            <a:endCxn id="44" idx="0"/>
          </p:cNvCxnSpPr>
          <p:nvPr/>
        </p:nvCxnSpPr>
        <p:spPr>
          <a:xfrm flipV="1" rot="10800000">
            <a:off x="1577520" y="1530000"/>
            <a:ext cx="1670400" cy="887760"/>
          </a:xfrm>
          <a:prstGeom prst="curvedConnector2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9" idx="3"/>
            <a:endCxn id="46" idx="0"/>
          </p:cNvCxnSpPr>
          <p:nvPr/>
        </p:nvCxnSpPr>
        <p:spPr>
          <a:xfrm>
            <a:off x="5894280" y="1530360"/>
            <a:ext cx="1675080" cy="887760"/>
          </a:xfrm>
          <a:prstGeom prst="curvedConnector2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3247920" y="905040"/>
            <a:ext cx="2646360" cy="12506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9720" y="905040"/>
            <a:ext cx="2644560" cy="30780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9720" y="2417760"/>
            <a:ext cx="2644560" cy="30780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9" idx="2"/>
            <a:endCxn id="52" idx="0"/>
          </p:cNvCxnSpPr>
          <p:nvPr/>
        </p:nvCxnSpPr>
        <p:spPr>
          <a:xfrm>
            <a:off x="4570920" y="2155680"/>
            <a:ext cx="1440" cy="262440"/>
          </a:xfrm>
          <a:prstGeom prst="straightConnector1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52360" y="4545000"/>
            <a:ext cx="8637480" cy="2060640"/>
          </a:xfrm>
          <a:prstGeom prst="rect">
            <a:avLst/>
          </a:prstGeom>
          <a:solidFill>
            <a:srgbClr val="c0c0c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3360" y="5345280"/>
            <a:ext cx="2760840" cy="11556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91040" y="5345280"/>
            <a:ext cx="2760480" cy="11556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48360" y="5345280"/>
            <a:ext cx="2760840" cy="11556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76160" y="5137200"/>
            <a:ext cx="187488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3840" y="5137200"/>
            <a:ext cx="187488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91160" y="5137200"/>
            <a:ext cx="187488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6600" y="4643280"/>
            <a:ext cx="8470800" cy="384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3:57:08Z</dcterms:created>
  <dc:creator>Takeshima Shinichiro</dc:creator>
  <dc:description/>
  <dc:language>en-US</dc:language>
  <cp:lastModifiedBy>Takeshima Shinichiro</cp:lastModifiedBy>
  <dcterms:modified xsi:type="dcterms:W3CDTF">2006-02-13T00:14:41Z</dcterms:modified>
  <cp:revision>16</cp:revision>
  <dc:subject/>
  <dc:title>スライド 1</dc:title>
</cp:coreProperties>
</file>