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C8517-E05C-407B-9AF9-28096C3E7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03342-843A-417F-ABF2-6906EBD7F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C45CC-2A12-4AE5-A724-A2751A558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2F46D-147C-4CD4-93F8-77839B6F2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EC2E9-F153-4010-857D-95503EDCF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1311A-2601-4754-B43E-6C6E5A521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41CFE-175C-45C2-981E-F56F1DE43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CFDB8-A9DF-44DE-8659-C3681C333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57DEB-C689-4377-959F-DB347B8C6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CAAD3-F126-4A03-9624-48F21ADE9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3497B-CAA1-4F51-8448-57C5424E5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230E0-50CF-4A34-8B45-236AB268C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F5EBC-C0A2-4CDC-8971-B8A8C84953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2360" y="1282680"/>
            <a:ext cx="8637480" cy="1911240"/>
          </a:xfrm>
          <a:prstGeom prst="rect">
            <a:avLst/>
          </a:prstGeom>
          <a:solidFill>
            <a:srgbClr val="dddddd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06920" y="5477040"/>
            <a:ext cx="4282920" cy="1123920"/>
          </a:xfrm>
          <a:prstGeom prst="rect">
            <a:avLst/>
          </a:prstGeom>
          <a:solidFill>
            <a:srgbClr val="ffffff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52360" y="5477040"/>
            <a:ext cx="4283280" cy="1123920"/>
          </a:xfrm>
          <a:prstGeom prst="rect">
            <a:avLst/>
          </a:prstGeom>
          <a:solidFill>
            <a:srgbClr val="ffffff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389320" y="900000"/>
            <a:ext cx="4367160" cy="741600"/>
          </a:xfrm>
          <a:prstGeom prst="rect">
            <a:avLst/>
          </a:prstGeom>
          <a:solidFill>
            <a:srgbClr val="ffffff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rot="10800000">
            <a:off x="1533600" y="4920840"/>
            <a:ext cx="6075360" cy="735120"/>
          </a:xfrm>
          <a:prstGeom prst="triangle">
            <a:avLst>
              <a:gd name="adj" fmla="val 50000"/>
            </a:avLst>
          </a:prstGeom>
          <a:solidFill>
            <a:srgbClr val="c0c0c0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52360" y="5048280"/>
            <a:ext cx="8637480" cy="334800"/>
          </a:xfrm>
          <a:prstGeom prst="rect">
            <a:avLst/>
          </a:prstGeom>
          <a:solidFill>
            <a:srgbClr val="ffffff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329000" y="1717560"/>
            <a:ext cx="486000" cy="424080"/>
          </a:xfrm>
          <a:prstGeom prst="downArrow">
            <a:avLst>
              <a:gd name="adj1" fmla="val 49676"/>
              <a:gd name="adj2" fmla="val 56556"/>
            </a:avLst>
          </a:prstGeom>
          <a:solidFill>
            <a:srgbClr val="c0c0c0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329000" y="2836800"/>
            <a:ext cx="486000" cy="424080"/>
          </a:xfrm>
          <a:prstGeom prst="downArrow">
            <a:avLst>
              <a:gd name="adj1" fmla="val 49676"/>
              <a:gd name="adj2" fmla="val 56556"/>
            </a:avLst>
          </a:prstGeom>
          <a:solidFill>
            <a:srgbClr val="c0c0c0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1430280" y="1407960"/>
            <a:ext cx="852480" cy="733680"/>
          </a:xfrm>
          <a:custGeom>
            <a:avLst/>
            <a:gdLst>
              <a:gd name="textAreaLeft" fmla="*/ 284040 w 852480"/>
              <a:gd name="textAreaRight" fmla="*/ 730440 w 852480"/>
              <a:gd name="textAreaTop" fmla="*/ 422640 h 733680"/>
              <a:gd name="textAreaBottom" fmla="*/ 628560 h 7336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0c0c0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 rot="10800000">
            <a:off x="6867360" y="1407960"/>
            <a:ext cx="852480" cy="733680"/>
          </a:xfrm>
          <a:custGeom>
            <a:avLst/>
            <a:gdLst>
              <a:gd name="textAreaLeft" fmla="*/ 284040 w 852480"/>
              <a:gd name="textAreaRight" fmla="*/ 730440 w 852480"/>
              <a:gd name="textAreaTop" fmla="*/ 422640 h 733680"/>
              <a:gd name="textAreaBottom" fmla="*/ 628560 h 7336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0c0c0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424160" y="2836800"/>
            <a:ext cx="485640" cy="424080"/>
          </a:xfrm>
          <a:prstGeom prst="downArrow">
            <a:avLst>
              <a:gd name="adj1" fmla="val 49676"/>
              <a:gd name="adj2" fmla="val 56556"/>
            </a:avLst>
          </a:prstGeom>
          <a:solidFill>
            <a:srgbClr val="c0c0c0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232760" y="2836800"/>
            <a:ext cx="485640" cy="424080"/>
          </a:xfrm>
          <a:prstGeom prst="downArrow">
            <a:avLst>
              <a:gd name="adj1" fmla="val 49676"/>
              <a:gd name="adj2" fmla="val 56556"/>
            </a:avLst>
          </a:prstGeom>
          <a:solidFill>
            <a:srgbClr val="c0c0c0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60960" y="2179800"/>
            <a:ext cx="2828880" cy="78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52360" y="2179800"/>
            <a:ext cx="2828880" cy="78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157560" y="2179800"/>
            <a:ext cx="2828880" cy="78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60960" y="3278160"/>
            <a:ext cx="2828880" cy="1571760"/>
          </a:xfrm>
          <a:prstGeom prst="rect">
            <a:avLst/>
          </a:prstGeom>
          <a:solidFill>
            <a:srgbClr val="ffffff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52360" y="3278160"/>
            <a:ext cx="2828880" cy="1571760"/>
          </a:xfrm>
          <a:prstGeom prst="rect">
            <a:avLst/>
          </a:prstGeom>
          <a:solidFill>
            <a:srgbClr val="ffffff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56120" y="3278160"/>
            <a:ext cx="2828880" cy="1571760"/>
          </a:xfrm>
          <a:prstGeom prst="rect">
            <a:avLst/>
          </a:prstGeom>
          <a:solidFill>
            <a:srgbClr val="ffffff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60960" y="3278160"/>
            <a:ext cx="2828880" cy="287280"/>
          </a:xfrm>
          <a:prstGeom prst="rect">
            <a:avLst/>
          </a:prstGeom>
          <a:solidFill>
            <a:srgbClr val="dddddd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2360" y="3278160"/>
            <a:ext cx="2828880" cy="287280"/>
          </a:xfrm>
          <a:prstGeom prst="rect">
            <a:avLst/>
          </a:prstGeom>
          <a:solidFill>
            <a:srgbClr val="dddddd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156120" y="3278160"/>
            <a:ext cx="2828880" cy="287280"/>
          </a:xfrm>
          <a:prstGeom prst="rect">
            <a:avLst/>
          </a:prstGeom>
          <a:solidFill>
            <a:srgbClr val="dddddd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23:57:08Z</dcterms:created>
  <dc:creator>Takeshima Shinichiro</dc:creator>
  <dc:description/>
  <dc:language>en-US</dc:language>
  <cp:lastModifiedBy>Takeshima Shinichiro</cp:lastModifiedBy>
  <dcterms:modified xsi:type="dcterms:W3CDTF">2006-02-13T00:18:41Z</dcterms:modified>
  <cp:revision>25</cp:revision>
  <dc:subject/>
  <dc:title>スライド 1</dc:title>
</cp:coreProperties>
</file>