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A66-1393-48D4-B1A5-C496BAB6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975-358E-4EA8-9737-E36F2F2D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14D-C7D9-48D3-9514-A165D49F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1F0-91BC-4824-8CF1-5D884D1F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F31-8B6E-4016-886C-76F2A02D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583-6E4E-4644-B401-6CF4EA87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7A5-B880-46BB-8697-F3DC9D4D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E6D-4177-4698-8C34-1C8BF830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627-19C3-4ACC-9C85-5D491A60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6E4-F0AC-42CD-A784-D93A5302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780-D4FF-4667-B0A5-324B8DD1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A8A-6D73-4BDD-A150-2877CC98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05BB-1E51-411D-83BE-B4F5B59E5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1209600"/>
            <a:ext cx="8637480" cy="3338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0120" y="1338120"/>
            <a:ext cx="8481960" cy="132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0120" y="2819520"/>
            <a:ext cx="4162680" cy="13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9760" y="2819520"/>
            <a:ext cx="4162320" cy="13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2880" y="2576520"/>
            <a:ext cx="1936800" cy="336600"/>
          </a:xfrm>
          <a:prstGeom prst="downArrow">
            <a:avLst>
              <a:gd name="adj1" fmla="val 49037"/>
              <a:gd name="adj2" fmla="val 52764"/>
            </a:avLst>
          </a:pr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62520" y="2576520"/>
            <a:ext cx="1936800" cy="336600"/>
          </a:xfrm>
          <a:prstGeom prst="downArrow">
            <a:avLst>
              <a:gd name="adj1" fmla="val 49037"/>
              <a:gd name="adj2" fmla="val 52764"/>
            </a:avLst>
          </a:pr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19400" y="2432160"/>
            <a:ext cx="384120" cy="38412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39040" y="2432160"/>
            <a:ext cx="384120" cy="38412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4237200"/>
            <a:ext cx="5757840" cy="5968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06920" y="5121360"/>
            <a:ext cx="4282920" cy="14986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2360" y="5121360"/>
            <a:ext cx="4283280" cy="14986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2122560" y="3611520"/>
            <a:ext cx="542880" cy="3155760"/>
          </a:xfrm>
          <a:custGeom>
            <a:avLst/>
            <a:gdLst>
              <a:gd name="textAreaLeft" fmla="*/ 0 w 542880"/>
              <a:gd name="textAreaRight" fmla="*/ 543240 w 542880"/>
              <a:gd name="textAreaTop" fmla="*/ 0 h 3155760"/>
              <a:gd name="textAreaBottom" fmla="*/ 3156120 h 31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6476400" y="3611160"/>
            <a:ext cx="542880" cy="3156120"/>
          </a:xfrm>
          <a:custGeom>
            <a:avLst/>
            <a:gdLst>
              <a:gd name="textAreaLeft" fmla="*/ 0 w 542880"/>
              <a:gd name="textAreaRight" fmla="*/ 543240 w 542880"/>
              <a:gd name="textAreaTop" fmla="*/ 0 h 3156120"/>
              <a:gd name="textAreaBottom" fmla="*/ 3156480 h 315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90400" y="-531720"/>
            <a:ext cx="760320" cy="3662280"/>
          </a:xfrm>
          <a:custGeom>
            <a:avLst/>
            <a:gdLst>
              <a:gd name="textAreaLeft" fmla="*/ 0 w 760320"/>
              <a:gd name="textAreaRight" fmla="*/ 760680 w 760320"/>
              <a:gd name="textAreaTop" fmla="*/ 0 h 3662280"/>
              <a:gd name="textAreaBottom" fmla="*/ 3662640 h 36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1T12:25:18Z</dcterms:modified>
  <cp:revision>26</cp:revision>
  <dc:subject/>
  <dc:title>スライド 1</dc:title>
</cp:coreProperties>
</file>