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BD84-2E23-4148-856C-932AA3D0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C93-E49F-4E01-A42B-F9CA79FC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58B9-65B9-4D23-9832-2D2A9ED9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437D-78E9-4F5F-9F6D-14C4D45B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BE3E-3F64-4C19-AAC1-A6110908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258A-E763-4D2B-A786-A48262D3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14B2-FD51-4483-A50F-C7B0D8DA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DC89-BCE0-47F7-B9FE-FB9D7BC9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F26C-24C9-4388-81DA-FBEB94B3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2513-103B-4C32-BD31-6D272840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E950-F8BE-4C6E-A688-6F259C2C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4D34-F119-4462-9BEE-C1673B61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CB61-AC0B-4337-92AD-B98495D14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4160" y="892080"/>
            <a:ext cx="8637480" cy="5700960"/>
          </a:xfrm>
          <a:prstGeom prst="rect">
            <a:avLst/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4160" y="5094360"/>
            <a:ext cx="8637480" cy="15192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4160" y="5094360"/>
            <a:ext cx="8637480" cy="30456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1840" y="2990880"/>
            <a:ext cx="4249800" cy="181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1840" y="2990880"/>
            <a:ext cx="4249800" cy="30492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0800000">
            <a:off x="5872320" y="2836440"/>
            <a:ext cx="1790640" cy="28908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4160" y="2990880"/>
            <a:ext cx="4249440" cy="181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4160" y="2990880"/>
            <a:ext cx="4249440" cy="30492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1482840" y="2836440"/>
            <a:ext cx="1790640" cy="28908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3676680" y="4930920"/>
            <a:ext cx="1790640" cy="2887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4160" y="892080"/>
            <a:ext cx="2808000" cy="181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4160" y="892080"/>
            <a:ext cx="2808000" cy="31428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3280" y="892080"/>
            <a:ext cx="2808360" cy="181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68720" y="892080"/>
            <a:ext cx="2808360" cy="181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3280" y="892080"/>
            <a:ext cx="2808360" cy="31428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68720" y="892080"/>
            <a:ext cx="2808360" cy="31428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21T12:26:00Z</dcterms:modified>
  <cp:revision>9</cp:revision>
  <dc:subject/>
  <dc:title>スライド 1</dc:title>
</cp:coreProperties>
</file>