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FEF3-E740-4A4D-9ECC-54A0F3551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5A1C-74F1-4F05-8FBF-1D9A23EB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0B67-833F-475A-91DF-CEB5D7F92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1679-DF07-42A6-B0D6-536BA137E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AB9E-1C7B-4281-B311-4A04638C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2C4D-8A5B-4C4C-BE8B-3F941A53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FCBB-004A-4BA5-9D7A-3E5E79EB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0C6F-54ED-4A7E-8ABF-B37042AC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3107-B3E7-4BAA-AE56-463751C4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5D69-5B48-428B-B49A-F0DBFC40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3B0A-2077-4271-ADF3-AA586EDF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FA88-871B-40BC-A200-D2AFAD78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FFA8-379A-48CC-8FC7-D5DB45103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9120" y="895320"/>
            <a:ext cx="8637840" cy="19098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7680" y="895320"/>
            <a:ext cx="2879640" cy="190980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08760" y="895320"/>
            <a:ext cx="2879640" cy="190980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893880"/>
            <a:ext cx="8637480" cy="409320"/>
          </a:xfrm>
          <a:prstGeom prst="rect">
            <a:avLst/>
          </a:prstGeom>
          <a:solidFill>
            <a:srgbClr val="b2b2b2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8960" y="5291280"/>
            <a:ext cx="5619600" cy="13064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4160" y="2887560"/>
            <a:ext cx="1501920" cy="287280"/>
          </a:xfrm>
          <a:prstGeom prst="downArrow">
            <a:avLst>
              <a:gd name="adj1" fmla="val 50083"/>
              <a:gd name="adj2" fmla="val 53306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7320" y="5038560"/>
            <a:ext cx="2881440" cy="50508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81840" y="3236760"/>
            <a:ext cx="2806560" cy="14144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46600" y="8380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04280" y="8380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01920" y="914400"/>
            <a:ext cx="371160" cy="371520"/>
          </a:xfrm>
          <a:prstGeom prst="ellipse">
            <a:avLst/>
          </a:prstGeom>
          <a:solidFill>
            <a:srgbClr val="b2b2b2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62640" y="914400"/>
            <a:ext cx="371520" cy="371520"/>
          </a:xfrm>
          <a:prstGeom prst="ellipse">
            <a:avLst/>
          </a:prstGeom>
          <a:solidFill>
            <a:srgbClr val="b2b2b2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83000" y="914400"/>
            <a:ext cx="371520" cy="371520"/>
          </a:xfrm>
          <a:prstGeom prst="ellipse">
            <a:avLst/>
          </a:prstGeom>
          <a:solidFill>
            <a:srgbClr val="b2b2b2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7680" y="3236760"/>
            <a:ext cx="2806560" cy="14144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64040" y="3236760"/>
            <a:ext cx="2806560" cy="14144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2887560"/>
            <a:ext cx="1501920" cy="287280"/>
          </a:xfrm>
          <a:prstGeom prst="downArrow">
            <a:avLst>
              <a:gd name="adj1" fmla="val 50083"/>
              <a:gd name="adj2" fmla="val 53306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17800" y="2887560"/>
            <a:ext cx="1501920" cy="287280"/>
          </a:xfrm>
          <a:prstGeom prst="downArrow">
            <a:avLst>
              <a:gd name="adj1" fmla="val 50083"/>
              <a:gd name="adj2" fmla="val 53306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81840" y="3236760"/>
            <a:ext cx="2806560" cy="28764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7680" y="3236760"/>
            <a:ext cx="2806560" cy="28764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64040" y="3236760"/>
            <a:ext cx="2806560" cy="28764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17800" y="4716360"/>
            <a:ext cx="1501920" cy="287280"/>
          </a:xfrm>
          <a:prstGeom prst="downArrow">
            <a:avLst>
              <a:gd name="adj1" fmla="val 50083"/>
              <a:gd name="adj2" fmla="val 53306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23:57:08Z</dcterms:created>
  <dc:creator>Takeshima Shinichiro</dc:creator>
  <dc:description/>
  <dc:language>en-US</dc:language>
  <cp:lastModifiedBy>Takeshima Shinichiro</cp:lastModifiedBy>
  <dcterms:modified xsi:type="dcterms:W3CDTF">2006-02-13T00:27:34Z</dcterms:modified>
  <cp:revision>8</cp:revision>
  <dc:subject/>
  <dc:title>スライド 1</dc:title>
</cp:coreProperties>
</file>