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01E-118A-4154-BFEE-C162DE6A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0887-F136-425E-923A-925B27DF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753-150E-4E98-902D-F23BB105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F5C-3A1E-44DB-96D7-8B7E6EDC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54C-3295-43C2-B169-FBCB7981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ADB-A5E6-4070-9DB9-62EB2F47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7897-0BCB-4A39-9300-806D0921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49D-2FE6-49CC-8DA7-505C6315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BDB3-69D5-4710-96C9-E85B1E25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43E6-9000-47E1-822C-06FCB6E5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83B-D5A9-4E3A-8D08-05486368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41CA-90BD-490E-901C-737A290E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7CF6-D3DC-4FC2-A8DD-110C8CB7F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4160" y="900000"/>
            <a:ext cx="8637480" cy="3240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4160" y="3197160"/>
            <a:ext cx="8637480" cy="33804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4160" y="1276200"/>
            <a:ext cx="4287600" cy="152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1276200"/>
            <a:ext cx="4287600" cy="30492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03680" y="1276200"/>
            <a:ext cx="4287960" cy="152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03680" y="1276200"/>
            <a:ext cx="4287960" cy="30492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333240" y="2855520"/>
            <a:ext cx="2475000" cy="2890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3333240" y="5156280"/>
            <a:ext cx="2475000" cy="2887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4160" y="3600360"/>
            <a:ext cx="2833560" cy="15033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8960" y="3668760"/>
            <a:ext cx="2703600" cy="29988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56120" y="3600360"/>
            <a:ext cx="2833560" cy="15033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0920" y="3668760"/>
            <a:ext cx="2703600" cy="29988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58080" y="3600360"/>
            <a:ext cx="2833560" cy="15033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22880" y="3668760"/>
            <a:ext cx="2703600" cy="29988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4160" y="5494320"/>
            <a:ext cx="3098520" cy="1093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2760" y="5494320"/>
            <a:ext cx="3098880" cy="1093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67200" y="5492880"/>
            <a:ext cx="3008160" cy="1095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21200" y="5551560"/>
            <a:ext cx="2900160" cy="976320"/>
          </a:xfrm>
          <a:prstGeom prst="ellipse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23T11:55:18Z</dcterms:modified>
  <cp:revision>11</cp:revision>
  <dc:subject/>
  <dc:title>スライド 1</dc:title>
</cp:coreProperties>
</file>