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0FF-4CAE-4B3E-98D3-36AB22F5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72B-EAC4-46D2-B911-823C4428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BBB-20E9-4697-B0C3-DD260034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5D5-2C47-4EFC-A458-4928E83F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3BD-76AF-42A8-9D8B-EDAEC9DD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47A-BBAB-4584-AC90-FDFBE7BA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495-FC07-4F49-94F4-FA5B9111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DAA-30A3-4FD0-8851-78EDDEC0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7A6-1781-4524-9D13-BCA9BC93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8C0-445E-4917-871B-F71CCB0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81F-24A4-446B-85C4-C8EF0AAF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560-F765-454B-88EA-6711EE5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6E7E-67C0-4142-8568-9845A8DCB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906480"/>
            <a:ext cx="8637480" cy="57006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906480"/>
            <a:ext cx="8637480" cy="30492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160" y="5273640"/>
            <a:ext cx="2832120" cy="13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3075120"/>
            <a:ext cx="2832120" cy="13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084320" y="4455720"/>
            <a:ext cx="1171440" cy="770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6960" y="4573440"/>
            <a:ext cx="2484360" cy="455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9520" y="5273640"/>
            <a:ext cx="2832120" cy="13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59520" y="3075120"/>
            <a:ext cx="2832120" cy="13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889320" y="4455720"/>
            <a:ext cx="1171800" cy="770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32680" y="4573440"/>
            <a:ext cx="2484360" cy="455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56120" y="5273640"/>
            <a:ext cx="2831760" cy="13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56120" y="3075120"/>
            <a:ext cx="2831760" cy="13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3986280" y="4455720"/>
            <a:ext cx="1171440" cy="770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28920" y="4573440"/>
            <a:ext cx="2484360" cy="455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801800" y="2563560"/>
            <a:ext cx="5538960" cy="4428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4160" y="1281240"/>
            <a:ext cx="428292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08360" y="1281240"/>
            <a:ext cx="42832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1T12:27:28Z</dcterms:modified>
  <cp:revision>16</cp:revision>
  <dc:subject/>
  <dc:title>スライド 1</dc:title>
</cp:coreProperties>
</file>