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63A-1083-4DD6-A840-72FE375B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991-4CE0-4C23-ACD0-28D4A46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51F-1A55-4EA1-9FB2-5AA220E4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36A-169E-4B57-86A0-5BFB729B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CEB-28FA-40F4-A7DD-A84B6789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8FF-C262-4839-A81C-3E790F86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BD6-E11E-4387-B6D8-5D32ED5A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F13-CBCE-411E-BCC1-3E20D1F4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E75-34E6-4CB1-A3CC-566F661C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AEB-BAF0-475A-BFC2-7A36BF8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084-8D9A-4B00-B9D9-34C71D29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C87-EF5F-4087-A393-6B4D9275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6973-3AC3-4C8C-A19D-FD9D70ABF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160" y="907920"/>
            <a:ext cx="8637480" cy="570096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907920"/>
            <a:ext cx="4282920" cy="3063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4160" y="1271520"/>
            <a:ext cx="4282920" cy="21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8360" y="907920"/>
            <a:ext cx="4283280" cy="3063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8360" y="1271520"/>
            <a:ext cx="4283280" cy="21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560" y="2552760"/>
            <a:ext cx="7724880" cy="192384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68760" y="2611440"/>
            <a:ext cx="1806480" cy="1806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6160" y="2611440"/>
            <a:ext cx="1806840" cy="1806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61000" y="2611440"/>
            <a:ext cx="1806840" cy="1806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848680" y="3429720"/>
            <a:ext cx="1057320" cy="169920"/>
          </a:xfrm>
          <a:prstGeom prst="triangle">
            <a:avLst>
              <a:gd name="adj" fmla="val 50000"/>
            </a:avLst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64040" y="2986200"/>
            <a:ext cx="64800" cy="105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36960" y="2986200"/>
            <a:ext cx="65160" cy="105732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09880" y="2986200"/>
            <a:ext cx="65160" cy="105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82800" y="2986200"/>
            <a:ext cx="6516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747400" y="3429720"/>
            <a:ext cx="1057320" cy="169920"/>
          </a:xfrm>
          <a:prstGeom prst="triangle">
            <a:avLst>
              <a:gd name="adj" fmla="val 50000"/>
            </a:avLst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62760" y="2986200"/>
            <a:ext cx="65160" cy="105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35680" y="2986200"/>
            <a:ext cx="65160" cy="105732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08600" y="2986200"/>
            <a:ext cx="65160" cy="105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81520" y="2986200"/>
            <a:ext cx="6516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4160" y="5110200"/>
            <a:ext cx="2828880" cy="14986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1373400" y="3448080"/>
            <a:ext cx="590400" cy="2828880"/>
          </a:xfrm>
          <a:custGeom>
            <a:avLst/>
            <a:gdLst>
              <a:gd name="textAreaLeft" fmla="*/ 0 w 590400"/>
              <a:gd name="textAreaRight" fmla="*/ 590760 w 590400"/>
              <a:gd name="textAreaTop" fmla="*/ 0 h 2828880"/>
              <a:gd name="textAreaBottom" fmla="*/ 2829240 h 28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62760" y="5110200"/>
            <a:ext cx="2828880" cy="14986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7182000" y="3448080"/>
            <a:ext cx="590400" cy="2828880"/>
          </a:xfrm>
          <a:custGeom>
            <a:avLst/>
            <a:gdLst>
              <a:gd name="textAreaLeft" fmla="*/ 0 w 590400"/>
              <a:gd name="textAreaRight" fmla="*/ 590760 w 590400"/>
              <a:gd name="textAreaTop" fmla="*/ 0 h 2828880"/>
              <a:gd name="textAreaBottom" fmla="*/ 2829240 h 28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57560" y="5110200"/>
            <a:ext cx="2828880" cy="14986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4276800" y="3448080"/>
            <a:ext cx="590400" cy="2828880"/>
          </a:xfrm>
          <a:custGeom>
            <a:avLst/>
            <a:gdLst>
              <a:gd name="textAreaLeft" fmla="*/ 0 w 590400"/>
              <a:gd name="textAreaRight" fmla="*/ 590760 w 590400"/>
              <a:gd name="textAreaTop" fmla="*/ 0 h 2828880"/>
              <a:gd name="textAreaBottom" fmla="*/ 2829240 h 28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3T10:04:43Z</dcterms:modified>
  <cp:revision>19</cp:revision>
  <dc:subject/>
  <dc:title>スライド 1</dc:title>
</cp:coreProperties>
</file>