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5B1-880E-4D0F-A6FE-6CAFF87A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368-BF3B-4CC3-B18D-DAC9EFF9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786-D26C-4606-83FE-D5493A83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04E-EB08-4450-A09B-E67FA1B4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E20-9D80-4DBD-B21F-8B4644E5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B9E-16CF-42A7-AF35-FEB6191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508-A0A1-4F64-9E1B-FFDE2AE9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CF6-C59D-4E31-AFDC-998BFCE9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6A5-E4E7-4AE5-9C32-A7858E4D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F01-F9D9-4D16-A1ED-65A277A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462-A596-4298-9E2D-C98F7714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102-A40D-431D-845E-8AE401D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64AC-461A-4AA1-9B3F-0FFCBF143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00000"/>
            <a:ext cx="8637480" cy="57009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900000"/>
            <a:ext cx="8637480" cy="3621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3580560" y="-1426320"/>
            <a:ext cx="1981080" cy="863748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1335240"/>
            <a:ext cx="4283280" cy="1155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324080" y="2646000"/>
            <a:ext cx="2139840" cy="2761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06920" y="1335240"/>
            <a:ext cx="4282920" cy="1155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5678640" y="2646000"/>
            <a:ext cx="2139840" cy="2761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" y="3079800"/>
            <a:ext cx="2816280" cy="108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360" y="4487760"/>
            <a:ext cx="2825640" cy="21304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1058760" y="3742920"/>
            <a:ext cx="1212840" cy="1650960"/>
          </a:xfrm>
          <a:prstGeom prst="flowChartDelay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8800" y="4079880"/>
            <a:ext cx="1473120" cy="11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1000" y="4599000"/>
            <a:ext cx="2627280" cy="19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67440" y="3079800"/>
            <a:ext cx="2816280" cy="108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64200" y="4487760"/>
            <a:ext cx="2825640" cy="21304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6870600" y="3742920"/>
            <a:ext cx="1212840" cy="1650960"/>
          </a:xfrm>
          <a:prstGeom prst="flowChartDelay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40640" y="4079880"/>
            <a:ext cx="1473120" cy="11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62840" y="4599000"/>
            <a:ext cx="2627280" cy="19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0" y="3079800"/>
            <a:ext cx="2816280" cy="108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7560" y="4487760"/>
            <a:ext cx="2825640" cy="21304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3963960" y="3742920"/>
            <a:ext cx="1212840" cy="1650960"/>
          </a:xfrm>
          <a:prstGeom prst="flowChartDelay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33640" y="4079880"/>
            <a:ext cx="1473480" cy="11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55840" y="4599000"/>
            <a:ext cx="2627280" cy="19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10:29:57Z</dcterms:modified>
  <cp:revision>20</cp:revision>
  <dc:subject/>
  <dc:title>スライド 1</dc:title>
</cp:coreProperties>
</file>