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AF1-1B21-47AE-AE93-7BD1CB34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F28-690C-4A6C-BDEA-7AAF6EB1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BD4-6767-4F11-A80A-38E56E77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42C-2E2E-4996-BB5E-0B75CA0E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D3A-F2DA-450D-81D4-CAB5C94C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40A-8123-489A-87B4-6675857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59D-429B-4FCE-B142-81DC4885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EE3-B980-493C-BEB6-0A16B27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FB2-6FF2-448D-A1D8-B632D904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DBD-B04A-488A-8811-4364B04F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8B5-EC16-4894-9E86-9D98F34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4B6-57FD-4C5D-B64D-AECE565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CC7-8162-493C-8B72-9B12E910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5591160"/>
            <a:ext cx="8637480" cy="1031760"/>
          </a:xfrm>
          <a:prstGeom prst="rect">
            <a:avLst/>
          </a:prstGeom>
          <a:solidFill>
            <a:srgbClr val="b2b2b2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5589720"/>
            <a:ext cx="3454560" cy="1033200"/>
          </a:xfrm>
          <a:custGeom>
            <a:avLst/>
            <a:gdLst>
              <a:gd name="textAreaLeft" fmla="*/ 0 w 3454560"/>
              <a:gd name="textAreaRight" fmla="*/ 3454920 w 3454560"/>
              <a:gd name="textAreaTop" fmla="*/ 0 h 1033200"/>
              <a:gd name="textAreaBottom" fmla="*/ 1033200 h 10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5" y="0"/>
                </a:lnTo>
                <a:lnTo>
                  <a:pt x="21600" y="10800"/>
                </a:lnTo>
                <a:lnTo>
                  <a:pt x="178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7200" y="5589720"/>
            <a:ext cx="3454200" cy="1033200"/>
          </a:xfrm>
          <a:custGeom>
            <a:avLst/>
            <a:gdLst>
              <a:gd name="textAreaLeft" fmla="*/ 0 w 3454200"/>
              <a:gd name="textAreaRight" fmla="*/ 3454560 w 3454200"/>
              <a:gd name="textAreaTop" fmla="*/ 0 h 1033200"/>
              <a:gd name="textAreaBottom" fmla="*/ 1033200 h 10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5" y="0"/>
                </a:lnTo>
                <a:lnTo>
                  <a:pt x="21600" y="10800"/>
                </a:lnTo>
                <a:lnTo>
                  <a:pt x="178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905040"/>
            <a:ext cx="4282920" cy="2158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8360" y="905040"/>
            <a:ext cx="4283280" cy="2158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903240"/>
            <a:ext cx="4283280" cy="21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6040" y="973080"/>
            <a:ext cx="3897360" cy="2872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6920" y="903240"/>
            <a:ext cx="4282920" cy="21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973080"/>
            <a:ext cx="3897360" cy="2872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57560" y="3137040"/>
            <a:ext cx="2828880" cy="230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57560" y="2658960"/>
            <a:ext cx="2828880" cy="959040"/>
          </a:xfrm>
          <a:prstGeom prst="diamond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3556080" y="5378400"/>
            <a:ext cx="2031840" cy="3492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807880" y="3282840"/>
            <a:ext cx="3081240" cy="2159280"/>
          </a:xfrm>
          <a:custGeom>
            <a:avLst/>
            <a:gdLst>
              <a:gd name="textAreaLeft" fmla="*/ -360 w 3081240"/>
              <a:gd name="textAreaRight" fmla="*/ 3081240 w 308124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5" y="0"/>
                </a:lnTo>
                <a:lnTo>
                  <a:pt x="21600" y="10800"/>
                </a:lnTo>
                <a:lnTo>
                  <a:pt x="178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360" y="3282840"/>
            <a:ext cx="3081240" cy="2159280"/>
          </a:xfrm>
          <a:custGeom>
            <a:avLst/>
            <a:gdLst>
              <a:gd name="textAreaLeft" fmla="*/ 0 w 3081240"/>
              <a:gd name="textAreaRight" fmla="*/ 3081600 w 308124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5" y="0"/>
                </a:lnTo>
                <a:lnTo>
                  <a:pt x="21600" y="10800"/>
                </a:lnTo>
                <a:lnTo>
                  <a:pt x="178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3T11:57:16Z</dcterms:modified>
  <cp:revision>25</cp:revision>
  <dc:subject/>
  <dc:title>スライド 1</dc:title>
</cp:coreProperties>
</file>