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83D-2FB2-4096-9D70-50977C50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1F5-0F2B-46E4-A479-61CDE4F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103-1A18-4E83-9C9C-FC2BFC1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5DD-73C8-4AE3-95D9-9D58981A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AA8-9DFC-45E1-848E-ADCDA7E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683-21F8-4B6B-BE2F-2684106C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F78-9E05-407C-A8B3-1BA3BEB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29D-DA94-41D7-88E0-3BBCDA1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977-01C9-44ED-B807-C701A8D6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929-5C3F-40BD-B939-51B00A1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693-5D4B-49DE-BF0B-67858F1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6EE-5E28-425D-AD90-A0568AB0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7CA-0EDF-4604-9772-D5299F11E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5840"/>
            <a:ext cx="8637480" cy="57009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9120" y="2936880"/>
            <a:ext cx="6305760" cy="29113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2200" y="5738760"/>
            <a:ext cx="5618160" cy="8780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7560" y="348444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349236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56120" y="349236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60960" y="3492360"/>
            <a:ext cx="282888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46760" y="4170240"/>
            <a:ext cx="444600" cy="4446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96080" y="4390920"/>
            <a:ext cx="347400" cy="1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50480" y="4170240"/>
            <a:ext cx="444600" cy="4446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98720" y="4390920"/>
            <a:ext cx="347760" cy="1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411360" y="5365440"/>
            <a:ext cx="2321280" cy="3128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6920" y="1184400"/>
            <a:ext cx="428292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11760" y="915840"/>
            <a:ext cx="3871800" cy="517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1184400"/>
            <a:ext cx="428328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5840"/>
            <a:ext cx="3871800" cy="517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790640"/>
            <a:ext cx="2284560" cy="2284560"/>
          </a:xfrm>
          <a:prstGeom prst="diamond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865160"/>
            <a:ext cx="2133360" cy="21337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3T11:58:29Z</dcterms:modified>
  <cp:revision>26</cp:revision>
  <dc:subject/>
  <dc:title>スライド 1</dc:title>
</cp:coreProperties>
</file>