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F81-D37B-4C74-9DA5-55D6A3C2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690-013E-4E06-8B7C-C0E88A0B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C81-9F27-4594-9EAC-8538BF21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CA1-7AD4-4CBD-B646-93E346B6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360-FFD4-4782-A842-8C5C9C8A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986-7EDC-4F42-868E-EDFBC1CD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897-0C8F-4A30-9197-1ACBD6F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B40-B336-4B33-B411-026F6574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1F6-33EB-401E-A6FA-CD51F09B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73C-C7AD-4C4D-AB41-8FEDEA58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1EC-5303-46A1-99FE-96AA269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E76-9E6A-4A13-8A31-ACEBE3A7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1704-DBE4-4407-9289-09051EAA9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160" y="920880"/>
            <a:ext cx="8637480" cy="570060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920880"/>
            <a:ext cx="8637480" cy="2872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4160" y="3494160"/>
            <a:ext cx="4317840" cy="11667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3440" y="3494160"/>
            <a:ext cx="4318200" cy="11667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3157560" y="3494160"/>
            <a:ext cx="2828880" cy="75888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4160" y="1271520"/>
            <a:ext cx="3825720" cy="21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65560" y="1271520"/>
            <a:ext cx="3826080" cy="21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3676680" y="1720800"/>
            <a:ext cx="1598400" cy="696960"/>
          </a:xfrm>
          <a:prstGeom prst="triangle">
            <a:avLst>
              <a:gd name="adj" fmla="val 35745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3868560" y="2280600"/>
            <a:ext cx="1598760" cy="696960"/>
          </a:xfrm>
          <a:prstGeom prst="triangle">
            <a:avLst>
              <a:gd name="adj" fmla="val 35745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4821120"/>
            <a:ext cx="2828880" cy="180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4160" y="4821120"/>
            <a:ext cx="2828880" cy="3081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074240" y="4721400"/>
            <a:ext cx="1189080" cy="241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57560" y="4821120"/>
            <a:ext cx="2828880" cy="180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57560" y="4821120"/>
            <a:ext cx="2828880" cy="3081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3976200" y="4721400"/>
            <a:ext cx="1189080" cy="241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62760" y="4821120"/>
            <a:ext cx="2828880" cy="180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62760" y="4821120"/>
            <a:ext cx="2828880" cy="3081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6883560" y="4721400"/>
            <a:ext cx="1188720" cy="241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3T09:24:38Z</dcterms:modified>
  <cp:revision>21</cp:revision>
  <dc:subject/>
  <dc:title>スライド 1</dc:title>
</cp:coreProperties>
</file>