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0F2-BEA6-43C3-88EF-7BA2F1F3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CD1-DD62-449A-BC44-814E5BE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25C-77B0-47C4-9D7E-01E9C74F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35B-F886-4ECF-B319-9D59CC4C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605-AFA4-4FE4-9A1C-FF641A83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BB2-51CD-47D6-9453-330468EE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3D3-B5CF-4591-91DB-10F3A39E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405-F7AB-45DB-A847-97FD189A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094-D82D-4BF7-A51F-4ADEBB5F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270-BCA0-4E77-9C3A-1F1982EC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DD7-DC78-42BA-8707-D39FA360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9C9-E7F5-4BB4-AC42-84916EAA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ABAF-ED6B-4559-BFF8-7B2ED3FD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5351400"/>
            <a:ext cx="2104920" cy="12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5210280"/>
            <a:ext cx="2104920" cy="2872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4920" y="5351400"/>
            <a:ext cx="2104920" cy="12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28920" y="5351400"/>
            <a:ext cx="2104920" cy="12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6920" y="5351400"/>
            <a:ext cx="2104920" cy="12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8920" y="5210280"/>
            <a:ext cx="2104920" cy="2872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06920" y="5210280"/>
            <a:ext cx="2104920" cy="2872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4920" y="5210280"/>
            <a:ext cx="2104920" cy="2872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2" idx="0"/>
            <a:endCxn id="48" idx="0"/>
          </p:cNvCxnSpPr>
          <p:nvPr/>
        </p:nvCxnSpPr>
        <p:spPr>
          <a:xfrm rot="16200000">
            <a:off x="4570920" y="1944000"/>
            <a:ext cx="360" cy="6532920"/>
          </a:xfrm>
          <a:prstGeom prst="bentConnector3">
            <a:avLst>
              <a:gd name="adj1" fmla="val -67000000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50" name=""/>
          <p:cNvCxnSpPr>
            <a:stCxn id="46" idx="0"/>
            <a:endCxn id="47" idx="0"/>
          </p:cNvCxnSpPr>
          <p:nvPr/>
        </p:nvCxnSpPr>
        <p:spPr>
          <a:xfrm rot="16200000">
            <a:off x="4570200" y="4121280"/>
            <a:ext cx="360" cy="2178360"/>
          </a:xfrm>
          <a:prstGeom prst="bentConnector3">
            <a:avLst>
              <a:gd name="adj1" fmla="val -67000000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51" name=""/>
          <p:cNvSpPr/>
          <p:nvPr/>
        </p:nvSpPr>
        <p:spPr>
          <a:xfrm>
            <a:off x="252360" y="912960"/>
            <a:ext cx="4283280" cy="21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3135240"/>
            <a:ext cx="2828880" cy="163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000080" y="2997000"/>
            <a:ext cx="1333440" cy="2761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06920" y="912960"/>
            <a:ext cx="4282920" cy="21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370800" y="930240"/>
            <a:ext cx="590760" cy="6858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16200000">
            <a:off x="8179200" y="930240"/>
            <a:ext cx="590760" cy="6858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920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42720" y="9208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60960" y="3135240"/>
            <a:ext cx="2828880" cy="163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6808680" y="2997000"/>
            <a:ext cx="1333440" cy="2761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16160" y="2284560"/>
            <a:ext cx="2909880" cy="2909880"/>
          </a:xfrm>
          <a:prstGeom prst="diamond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13000" y="2379600"/>
            <a:ext cx="2718000" cy="27180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1T12:31:05Z</dcterms:modified>
  <cp:revision>24</cp:revision>
  <dc:subject/>
  <dc:title>スライド 1</dc:title>
</cp:coreProperties>
</file>