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273-4D2F-4487-8E20-460B8C29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F7B-2C9E-4997-BA68-CB58FC8B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E43-89C8-46B8-80FB-F049084A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11D-DC55-47D0-9D58-DAB3F82A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053-8EA2-4E5F-911F-FD493026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2EF-307B-4B9E-8D4B-F1C40B2F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664-5B13-474A-96D8-16101DA1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2BC-162F-4BE5-9230-EFE0BF3A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621-5F42-4AC2-ADA1-8BAA68A3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573-EF41-45D8-9055-C9364488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527-B64C-46B3-9FB2-06D239CE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169-D027-4868-8638-B1A0BD8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7322-32BE-44A8-97F6-799B5DA50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160" y="912960"/>
            <a:ext cx="8637480" cy="57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912960"/>
            <a:ext cx="8637480" cy="191448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49760" y="1346040"/>
            <a:ext cx="3259440" cy="104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280" y="1346040"/>
            <a:ext cx="3259080" cy="104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4367160"/>
            <a:ext cx="8456400" cy="925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4160" y="5351400"/>
            <a:ext cx="2104920" cy="274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4160" y="5351400"/>
            <a:ext cx="2104920" cy="12621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6720" y="5351400"/>
            <a:ext cx="2104920" cy="274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6720" y="5351400"/>
            <a:ext cx="2104920" cy="12621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0360" y="5351400"/>
            <a:ext cx="2105280" cy="274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0360" y="5351400"/>
            <a:ext cx="2105280" cy="12621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08360" y="5351400"/>
            <a:ext cx="2105280" cy="274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8360" y="5351400"/>
            <a:ext cx="2105280" cy="12621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160" y="2967120"/>
            <a:ext cx="3429000" cy="180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08160" y="2527200"/>
            <a:ext cx="1520640" cy="387360"/>
          </a:xfrm>
          <a:prstGeom prst="downArrow">
            <a:avLst>
              <a:gd name="adj1" fmla="val 43426"/>
              <a:gd name="adj2" fmla="val 64755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3080" y="3068640"/>
            <a:ext cx="3249360" cy="287280"/>
          </a:xfrm>
          <a:prstGeom prst="roundRect">
            <a:avLst>
              <a:gd name="adj" fmla="val 32597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62640" y="2967120"/>
            <a:ext cx="3429000" cy="180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16640" y="2527200"/>
            <a:ext cx="1521000" cy="387360"/>
          </a:xfrm>
          <a:prstGeom prst="downArrow">
            <a:avLst>
              <a:gd name="adj1" fmla="val 43426"/>
              <a:gd name="adj2" fmla="val 64755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51560" y="3068640"/>
            <a:ext cx="3249720" cy="287280"/>
          </a:xfrm>
          <a:prstGeom prst="roundRect">
            <a:avLst>
              <a:gd name="adj" fmla="val 32597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89480" y="2967120"/>
            <a:ext cx="2165040" cy="216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3T10:35:50Z</dcterms:modified>
  <cp:revision>25</cp:revision>
  <dc:subject/>
  <dc:title>スライド 1</dc:title>
</cp:coreProperties>
</file>