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C55-8384-440D-98DA-B7BC388F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D1F-376B-4A2E-8CE6-E9F5DE93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080-24D3-4C6F-B675-70599565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BF2-72F2-4D8B-8E89-1FDA29C1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F5F-042B-4536-9B94-0CB222AD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764-89DD-4ECA-826B-99583847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435-A6A5-4036-8614-74F17507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9D2-CB93-4216-A9B5-3CF9075E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BD2-1336-4382-9786-88542D62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26A-5F14-4C42-8154-5DE8AA5E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6FB-40CA-440A-A661-83D1B5F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59E-F6F9-4746-A5FF-DA735EE4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D3F6-B8BA-434B-91B0-1E3AD6F85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05040"/>
            <a:ext cx="8637480" cy="57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57560" y="905040"/>
            <a:ext cx="2828880" cy="99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2360" y="2417760"/>
            <a:ext cx="8637480" cy="274320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6920" y="5514840"/>
            <a:ext cx="4282920" cy="10861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360" y="5514840"/>
            <a:ext cx="4283280" cy="10861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98960" y="2808360"/>
            <a:ext cx="2744640" cy="16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97160" y="3100320"/>
            <a:ext cx="2746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3880" y="2808360"/>
            <a:ext cx="2745000" cy="16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3880" y="3100320"/>
            <a:ext cx="2746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2808360"/>
            <a:ext cx="2745000" cy="16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41880" y="3100320"/>
            <a:ext cx="2746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5514840"/>
            <a:ext cx="782640" cy="10875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6920" y="5514840"/>
            <a:ext cx="782640" cy="10875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57560" y="2116080"/>
            <a:ext cx="2828880" cy="6001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2" idx="2"/>
            <a:endCxn id="54" idx="0"/>
          </p:cNvCxnSpPr>
          <p:nvPr/>
        </p:nvCxnSpPr>
        <p:spPr>
          <a:xfrm>
            <a:off x="4572000" y="1898640"/>
            <a:ext cx="360" cy="217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lg"/>
          </a:ln>
        </p:spPr>
      </p:cxnSp>
      <p:sp>
        <p:nvSpPr>
          <p:cNvPr id="56" name=""/>
          <p:cNvSpPr/>
          <p:nvPr/>
        </p:nvSpPr>
        <p:spPr>
          <a:xfrm>
            <a:off x="1692360" y="4844880"/>
            <a:ext cx="5757840" cy="6001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2646360" y="4495680"/>
            <a:ext cx="3849840" cy="276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3T12:01:18Z</dcterms:modified>
  <cp:revision>28</cp:revision>
  <dc:subject/>
  <dc:title>スライド 1</dc:title>
</cp:coreProperties>
</file>