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A95-FCB6-43CD-AE62-A2424D6E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C4C-154B-4957-A80C-F2BB7E04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B9B4-59E4-4CAA-9052-DDC48A19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967-9872-4543-872A-741BCB40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506-236C-4AC5-99ED-C117084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EA18-44AA-4945-9D35-CBC7C294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6CB-BAC7-4636-A9B8-6A8761E0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A669-D875-4010-B7E2-DA2524C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6FF-1DFC-4A7E-9262-B05B0D19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594-47D6-4150-89DA-A0A22BB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231-EB51-48B5-86ED-46E9FA03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189-4F4E-4B7C-AF3E-D7D48D42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D94-8844-4144-8E36-B611F1E69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922320"/>
            <a:ext cx="8637480" cy="570060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2360" y="5913360"/>
            <a:ext cx="8637480" cy="70956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360" y="1297080"/>
            <a:ext cx="2104920" cy="162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922320"/>
            <a:ext cx="2104920" cy="301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4920" y="1297080"/>
            <a:ext cx="2104920" cy="162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8920" y="1297080"/>
            <a:ext cx="2104920" cy="162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06920" y="1297080"/>
            <a:ext cx="2104920" cy="162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4920" y="922320"/>
            <a:ext cx="2104920" cy="301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28920" y="922320"/>
            <a:ext cx="2104920" cy="301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06920" y="922320"/>
            <a:ext cx="2104920" cy="30168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384200" y="2982240"/>
            <a:ext cx="6375600" cy="3826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3236760" y="5520960"/>
            <a:ext cx="2670480" cy="2890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2040" y="3470400"/>
            <a:ext cx="1878120" cy="1877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47840" y="4410000"/>
            <a:ext cx="46836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525640" y="4410000"/>
            <a:ext cx="46836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2360" y="3470400"/>
            <a:ext cx="2879640" cy="187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778200"/>
            <a:ext cx="287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0200" y="3470400"/>
            <a:ext cx="2879640" cy="187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0200" y="3778200"/>
            <a:ext cx="287964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5913360"/>
            <a:ext cx="288000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13T10:41:05Z</dcterms:modified>
  <cp:revision>22</cp:revision>
  <dc:subject/>
  <dc:title>スライド 1</dc:title>
</cp:coreProperties>
</file>