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D41-2BFB-456B-9261-4CA4A3EF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0A4-5AE8-4FBE-B993-F09B415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D04-2288-4099-8281-B9B95214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FCB-FF6C-4572-AB6C-402AA47E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7C8-B2E8-4A37-B5F8-FF7AF7D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E93-AE7D-4EAF-953A-BFA3A8CF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764-ACBF-4E18-AB13-04A445A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C91-1988-4A78-A70E-9898D58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C0B-9542-415A-B223-36AB1EF9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DC6-D1BE-4600-9EB6-FE64081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820-514C-4624-823E-2394CE4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037-D497-46CD-B585-20B30C6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FD1-F902-4CC4-8109-169E0B15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0000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113440"/>
            <a:ext cx="863748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114880"/>
            <a:ext cx="287964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3440" y="5114880"/>
            <a:ext cx="287964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3671640" y="3520800"/>
            <a:ext cx="1725840" cy="459000"/>
          </a:xfrm>
          <a:prstGeom prst="downArrow">
            <a:avLst>
              <a:gd name="adj1" fmla="val 49954"/>
              <a:gd name="adj2" fmla="val 5155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5197320"/>
            <a:ext cx="8506080" cy="3128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75280" y="4597560"/>
            <a:ext cx="1725840" cy="458640"/>
          </a:xfrm>
          <a:prstGeom prst="downArrow">
            <a:avLst>
              <a:gd name="adj1" fmla="val 49954"/>
              <a:gd name="adj2" fmla="val 5155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4680" y="2274840"/>
            <a:ext cx="1725480" cy="459000"/>
          </a:xfrm>
          <a:prstGeom prst="downArrow">
            <a:avLst>
              <a:gd name="adj1" fmla="val 49954"/>
              <a:gd name="adj2" fmla="val 5155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" y="2786040"/>
            <a:ext cx="4105080" cy="192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520" y="2873520"/>
            <a:ext cx="3924360" cy="3124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6200" y="2786040"/>
            <a:ext cx="4105440" cy="192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873520"/>
            <a:ext cx="3924360" cy="3124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00000"/>
            <a:ext cx="863748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900000"/>
            <a:ext cx="287964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3440" y="900000"/>
            <a:ext cx="2879640" cy="148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985680"/>
            <a:ext cx="8506080" cy="3128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2:02:23Z</dcterms:modified>
  <cp:revision>14</cp:revision>
  <dc:subject/>
  <dc:title>スライド 1</dc:title>
</cp:coreProperties>
</file>