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4DE-8B1A-4427-A3DF-FE8683C1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DE1F-F6B6-40EA-B2ED-C1A42920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10B-4119-44B3-A730-58BA694B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102-4E34-43BA-83C1-2A434F30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608-75EA-4567-A370-BBF3044B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AAD4-E5C1-4577-BE5A-ED0E0F00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DE7-8BEB-4B70-B792-CF8095AA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467-048D-42C6-B182-10D9E215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BDE-0270-41DE-8AEF-6161DC1A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0EE-34EC-44B1-BBEB-97E9B105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A13-4EB2-47C4-9F5E-F044FB59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11F-6857-422C-964A-8BD383E1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F069-A8C9-405B-B00A-0BD97D39E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915840"/>
            <a:ext cx="4318200" cy="5700960"/>
          </a:xfrm>
          <a:prstGeom prst="rect">
            <a:avLst/>
          </a:prstGeom>
          <a:solidFill>
            <a:srgbClr val="969696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915840"/>
            <a:ext cx="4317840" cy="5700960"/>
          </a:xfrm>
          <a:prstGeom prst="rect">
            <a:avLst/>
          </a:prstGeom>
          <a:solidFill>
            <a:srgbClr val="b2b2b2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990720"/>
            <a:ext cx="4246560" cy="5551200"/>
          </a:xfrm>
          <a:prstGeom prst="rect">
            <a:avLst/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73920" y="3376440"/>
            <a:ext cx="2744640" cy="180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6480" y="3376440"/>
            <a:ext cx="2744640" cy="180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040" y="1092240"/>
            <a:ext cx="4041720" cy="215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3376440"/>
            <a:ext cx="2745000" cy="180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944280" y="3174480"/>
            <a:ext cx="1695240" cy="34956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040" y="5446800"/>
            <a:ext cx="8399520" cy="100476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6599160" y="5231880"/>
            <a:ext cx="1695600" cy="34956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76840" y="1092240"/>
            <a:ext cx="4041720" cy="65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76840" y="2600280"/>
            <a:ext cx="4041720" cy="65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76840" y="1846440"/>
            <a:ext cx="4041720" cy="650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3679920" y="1996560"/>
            <a:ext cx="1695240" cy="34956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6800" y="5518080"/>
            <a:ext cx="3969000" cy="86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3-12T01:51:54Z</dcterms:modified>
  <cp:revision>24</cp:revision>
  <dc:subject/>
  <dc:title>スライド 1</dc:title>
</cp:coreProperties>
</file>