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31C-DFA1-4D90-B445-89D45184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D71-2D63-443E-92D3-3C71BD7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D40-91A7-4F14-92AE-0C676A91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02E-F1A3-48BC-A5EB-95E5EEF6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FCE-33B2-40D5-89B5-A03F53CB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63D-8C20-4FEB-BDF3-99A8B56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3C0-792F-4380-8704-861813B4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0E6-799C-4B25-9A85-782651F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739-4AD4-4EF3-8DA1-6D16C803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010-1833-4F74-8C10-AB8D410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40F-FE23-485A-8F17-7406818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EC2-5DB4-470D-8869-AE25900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6DC-7BB6-4909-A21C-84AF03DB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5840"/>
            <a:ext cx="8637480" cy="257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" y="1003320"/>
            <a:ext cx="4405320" cy="2398680"/>
          </a:xfrm>
          <a:custGeom>
            <a:avLst/>
            <a:gdLst>
              <a:gd name="textAreaLeft" fmla="*/ 0 w 4405320"/>
              <a:gd name="textAreaRight" fmla="*/ 4405680 w 440532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5" y="0"/>
                </a:lnTo>
                <a:lnTo>
                  <a:pt x="21600" y="10800"/>
                </a:lnTo>
                <a:lnTo>
                  <a:pt x="199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4840" y="187308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7880" y="1090440"/>
            <a:ext cx="3875040" cy="301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96000" y="1090440"/>
            <a:ext cx="3875040" cy="3016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4840" y="230976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840" y="274644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840" y="318456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2600" y="187308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2600" y="230976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62600" y="274644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2600" y="318456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60" y="5776920"/>
            <a:ext cx="8637480" cy="83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5778360"/>
            <a:ext cx="4318200" cy="8384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06920" y="3552840"/>
            <a:ext cx="4282920" cy="21589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3551400"/>
            <a:ext cx="4476960" cy="2162160"/>
          </a:xfrm>
          <a:prstGeom prst="rightArrowCallout">
            <a:avLst>
              <a:gd name="adj1" fmla="val 30697"/>
              <a:gd name="adj2" fmla="val 38324"/>
              <a:gd name="adj3" fmla="val 10554"/>
              <a:gd name="adj4" fmla="val 9295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920" y="3635280"/>
            <a:ext cx="3875040" cy="3016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96000" y="3635280"/>
            <a:ext cx="3875040" cy="301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2520" y="435924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2520" y="475128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2520" y="514512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2520" y="5538960"/>
            <a:ext cx="37414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62600" y="435924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2600" y="475128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2600" y="514512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62600" y="5538960"/>
            <a:ext cx="37418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3T12:06:57Z</dcterms:modified>
  <cp:revision>22</cp:revision>
  <dc:subject/>
  <dc:title>スライド 1</dc:title>
</cp:coreProperties>
</file>