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50B-9612-4F35-BCB1-52BD394B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250-5DF2-40FC-9F31-D0A328D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02F-2375-4C2B-AF1F-F56B0D5D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A54-6944-4FBC-9123-CAAB4D20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3A5-46C6-4ED2-8006-6A84FEFF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0C3-15AC-413C-8560-E5D4F215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3D0-60E4-4AB9-A4BD-948C5C5E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99C-FC38-44D4-8780-D3007EB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726-37D4-426C-A3F9-1319407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295-8BA5-4BA6-A6BA-6E5554E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E92-05D3-4A37-AA69-23B8299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5F1-792C-4136-8B7B-1D4227B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D26-F91A-4850-B900-9818053F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7405560"/>
            <a:ext cx="3201840" cy="14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67160" y="7405560"/>
            <a:ext cx="3201840" cy="142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3139920"/>
            <a:ext cx="3201840" cy="1616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7160" y="3139920"/>
            <a:ext cx="3201840" cy="16164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000" y="2754360"/>
            <a:ext cx="3201840" cy="315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67160" y="2754360"/>
            <a:ext cx="3201840" cy="315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1260360"/>
            <a:ext cx="6478560" cy="142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936240" y="1867680"/>
            <a:ext cx="1170000" cy="209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1751760" y="1867680"/>
            <a:ext cx="1170000" cy="209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98160" y="4838040"/>
            <a:ext cx="6062760" cy="338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000" y="5643720"/>
            <a:ext cx="2111400" cy="14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73480" y="5643720"/>
            <a:ext cx="2111040" cy="14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57600" y="5643720"/>
            <a:ext cx="2111400" cy="14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15520" y="5479920"/>
            <a:ext cx="1459080" cy="338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39680" y="5224320"/>
            <a:ext cx="409680" cy="409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2698920" y="5479920"/>
            <a:ext cx="1458720" cy="338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4882680" y="5479920"/>
            <a:ext cx="1459080" cy="338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24160" y="5224320"/>
            <a:ext cx="409680" cy="409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8640" y="5224320"/>
            <a:ext cx="409680" cy="409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127160" y="7197480"/>
            <a:ext cx="4603680" cy="41436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4T05:16:30Z</dcterms:modified>
  <cp:revision>22</cp:revision>
  <dc:subject/>
  <dc:title>スライド 1</dc:title>
</cp:coreProperties>
</file>