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27D-A347-494F-810D-F9359BCF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2E7-3CC8-4A6D-93A3-6DC4B13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00D-C7F3-4985-AC83-0C5E5FBC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513-5ED6-4F5E-86F6-2AA6CA05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4CC-DF57-4E1A-9942-18EF49C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128-CAC3-4835-92F5-FB552F4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2EC-2E2E-48E4-85A5-22B2DCC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FE1-BBED-4561-8095-DCC4086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CF8-65C1-498D-87C2-F9A4EC16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191-EAC2-4D20-BB86-3557DED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CBF-8AFB-4ED0-8FEC-486BFA4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DEB-D3BC-4E18-936A-11045672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054F-3C02-4635-A5F8-F7A133E3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" y="903240"/>
            <a:ext cx="7507440" cy="46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32880" y="903240"/>
            <a:ext cx="1060200" cy="46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756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096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5756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6096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7960" y="2394000"/>
            <a:ext cx="5199120" cy="2706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3720" y="2068560"/>
            <a:ext cx="194940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3720" y="4751280"/>
            <a:ext cx="194940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6680" y="3363840"/>
            <a:ext cx="194940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2560" y="3363840"/>
            <a:ext cx="194940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33720" y="3363840"/>
            <a:ext cx="194940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0" idx="2"/>
            <a:endCxn id="54" idx="0"/>
          </p:cNvCxnSpPr>
          <p:nvPr/>
        </p:nvCxnSpPr>
        <p:spPr>
          <a:xfrm>
            <a:off x="4008240" y="2743200"/>
            <a:ext cx="360" cy="62100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lg"/>
          </a:ln>
        </p:spPr>
      </p:cxnSp>
      <p:cxnSp>
        <p:nvCxnSpPr>
          <p:cNvPr id="56" name=""/>
          <p:cNvCxnSpPr>
            <a:stCxn id="51" idx="0"/>
            <a:endCxn id="54" idx="2"/>
          </p:cNvCxnSpPr>
          <p:nvPr/>
        </p:nvCxnSpPr>
        <p:spPr>
          <a:xfrm flipV="1">
            <a:off x="4008240" y="4038480"/>
            <a:ext cx="360" cy="71316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lg"/>
          </a:ln>
        </p:spPr>
      </p:cxnSp>
      <p:cxnSp>
        <p:nvCxnSpPr>
          <p:cNvPr id="57" name=""/>
          <p:cNvCxnSpPr>
            <a:stCxn id="52" idx="3"/>
            <a:endCxn id="54" idx="1"/>
          </p:cNvCxnSpPr>
          <p:nvPr/>
        </p:nvCxnSpPr>
        <p:spPr>
          <a:xfrm>
            <a:off x="2386080" y="3701160"/>
            <a:ext cx="648000" cy="36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lg"/>
          </a:ln>
        </p:spPr>
      </p:cxnSp>
      <p:cxnSp>
        <p:nvCxnSpPr>
          <p:cNvPr id="58" name=""/>
          <p:cNvCxnSpPr>
            <a:stCxn id="53" idx="1"/>
            <a:endCxn id="54" idx="3"/>
          </p:cNvCxnSpPr>
          <p:nvPr/>
        </p:nvCxnSpPr>
        <p:spPr>
          <a:xfrm flipH="1">
            <a:off x="4983120" y="3701160"/>
            <a:ext cx="649800" cy="36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5T09:41:54Z</dcterms:modified>
  <cp:revision>20</cp:revision>
  <dc:subject/>
  <dc:title>スライド 1</dc:title>
</cp:coreProperties>
</file>