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4BF-DFA6-4686-98DF-5419C194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82E-7F02-4F5F-B390-BF8F8A19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AF0-F248-41AE-A199-F18FF250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2ED-6E89-4FC6-9DCC-8CCAAB8A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9E4-FEC1-4A1F-AD0A-B36B5570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5B8-4184-4B65-B5DB-768BE684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888-206C-4E2E-9DF9-DC329681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AAA-2723-4E1D-A008-0A3DCC86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0A1-B547-4598-9586-55E0E34B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160-EC2D-4BA7-9D7B-EEA6142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96A3-8FB2-413D-8276-5C555E7C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40F-75D9-43B2-A201-1C28943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C4C1-0B65-496D-8F07-A0C8D2B4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4320" y="5613480"/>
            <a:ext cx="2832120" cy="102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58080" y="5613480"/>
            <a:ext cx="2831760" cy="102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54320" y="5613480"/>
            <a:ext cx="2832120" cy="242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2360" y="5613480"/>
            <a:ext cx="2832120" cy="10252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360" y="5613480"/>
            <a:ext cx="2832120" cy="242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58080" y="5613480"/>
            <a:ext cx="2831760" cy="242640"/>
          </a:xfrm>
          <a:prstGeom prst="rect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82760" y="903240"/>
            <a:ext cx="7507080" cy="464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2360" y="903240"/>
            <a:ext cx="1060560" cy="464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600" y="2212920"/>
            <a:ext cx="5565960" cy="2728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19640" y="3178080"/>
            <a:ext cx="1633320" cy="800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26000" y="2957400"/>
            <a:ext cx="676080" cy="43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847840" y="2957400"/>
            <a:ext cx="676440" cy="43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726000" y="3750840"/>
            <a:ext cx="676080" cy="43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847840" y="3750840"/>
            <a:ext cx="676440" cy="436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2293920"/>
            <a:ext cx="2065320" cy="12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9280" y="1960560"/>
            <a:ext cx="16398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4152960"/>
            <a:ext cx="2065320" cy="12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9280" y="3819600"/>
            <a:ext cx="16398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29320" y="2293920"/>
            <a:ext cx="2065320" cy="12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42080" y="1960560"/>
            <a:ext cx="16398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29320" y="4152960"/>
            <a:ext cx="2065320" cy="12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42080" y="3819600"/>
            <a:ext cx="1639800" cy="515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7:08Z</dcterms:created>
  <dc:creator>Takeshima Shinichiro</dc:creator>
  <dc:description/>
  <dc:language>en-US</dc:language>
  <cp:lastModifiedBy>Takeshima Shinichiro</cp:lastModifiedBy>
  <dcterms:modified xsi:type="dcterms:W3CDTF">2006-02-22T04:59:41Z</dcterms:modified>
  <cp:revision>23</cp:revision>
  <dc:subject/>
  <dc:title>スライド 1</dc:title>
</cp:coreProperties>
</file>