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CDA-A477-4EB2-9F13-06087F7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41A-813A-406A-90B7-856581F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095-4C34-4286-85B8-55F74712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E53-4BE6-4659-9B14-FC75F86D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235-E57E-48DE-8DD8-F55731BC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D68-0E0B-45DC-986C-E36AA66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253-9BE7-40DA-9AB9-3DB4437B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316-964B-4398-99A9-DA34B390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257-E05D-4996-A01A-868F0CF1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CDF-0542-48F7-881A-AE33415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A4C-1C01-489C-9989-92CDA4A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BC2-2C73-44D0-B374-A801212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5396-9E35-4E90-9223-5409FFD1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432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58080" y="907920"/>
            <a:ext cx="283176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432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82760" y="1998720"/>
            <a:ext cx="7507080" cy="462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8080" y="907920"/>
            <a:ext cx="283176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1998720"/>
            <a:ext cx="1060560" cy="462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1640" y="2622600"/>
            <a:ext cx="2354400" cy="12729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3897360"/>
            <a:ext cx="2354040" cy="127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16560" y="2620800"/>
            <a:ext cx="2354400" cy="12733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1640" y="5172120"/>
            <a:ext cx="2354400" cy="12729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16560" y="5172120"/>
            <a:ext cx="2354400" cy="12729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9" idx="3"/>
            <a:endCxn id="50" idx="0"/>
          </p:cNvCxnSpPr>
          <p:nvPr/>
        </p:nvCxnSpPr>
        <p:spPr>
          <a:xfrm>
            <a:off x="3956040" y="3259080"/>
            <a:ext cx="1180440" cy="638640"/>
          </a:xfrm>
          <a:prstGeom prst="bentConnector2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lg"/>
          </a:ln>
        </p:spPr>
      </p:cxnSp>
      <p:cxnSp>
        <p:nvCxnSpPr>
          <p:cNvPr id="55" name=""/>
          <p:cNvCxnSpPr>
            <a:stCxn id="51" idx="2"/>
            <a:endCxn id="50" idx="3"/>
          </p:cNvCxnSpPr>
          <p:nvPr/>
        </p:nvCxnSpPr>
        <p:spPr>
          <a:xfrm rot="5400000">
            <a:off x="6583320" y="3623760"/>
            <a:ext cx="640080" cy="1180800"/>
          </a:xfrm>
          <a:prstGeom prst="bentConnector2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lg"/>
          </a:ln>
        </p:spPr>
      </p:cxnSp>
      <p:cxnSp>
        <p:nvCxnSpPr>
          <p:cNvPr id="56" name=""/>
          <p:cNvCxnSpPr>
            <a:stCxn id="53" idx="1"/>
            <a:endCxn id="50" idx="2"/>
          </p:cNvCxnSpPr>
          <p:nvPr/>
        </p:nvCxnSpPr>
        <p:spPr>
          <a:xfrm rot="10800000">
            <a:off x="5135760" y="5169960"/>
            <a:ext cx="1180800" cy="638640"/>
          </a:xfrm>
          <a:prstGeom prst="bentConnector2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lg"/>
          </a:ln>
        </p:spPr>
      </p:cxnSp>
      <p:cxnSp>
        <p:nvCxnSpPr>
          <p:cNvPr id="57" name=""/>
          <p:cNvCxnSpPr>
            <a:stCxn id="52" idx="0"/>
            <a:endCxn id="50" idx="1"/>
          </p:cNvCxnSpPr>
          <p:nvPr/>
        </p:nvCxnSpPr>
        <p:spPr>
          <a:xfrm flipH="1" flipV="1" rot="5400000">
            <a:off x="3049560" y="4262760"/>
            <a:ext cx="638640" cy="1180800"/>
          </a:xfrm>
          <a:prstGeom prst="bentConnector2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2T05:00:51Z</dcterms:modified>
  <cp:revision>20</cp:revision>
  <dc:subject/>
  <dc:title>スライド 1</dc:title>
</cp:coreProperties>
</file>