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564-A250-4773-BB27-FCDF5138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D6C-FE01-4B55-AFAB-16914BEB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ADB-AE5F-40A3-BFD5-460987CE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564-5550-4819-958D-D420BA43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A36-D6AB-4440-A81B-9E3C35ED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848-081D-4E69-A5D5-72643C9A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A1B-9BA0-454B-98C1-F6322C6A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37D-0A13-48FC-BED6-AD11653E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4B1-F64F-4329-A028-43809864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8D6-F667-40EF-B8E5-6241034E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D56-B8F4-40CF-B8EF-4D14BCCA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15E-B075-4185-87E3-FF29711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1DF1-5534-49FB-9224-90FD146E7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6120" y="5348160"/>
            <a:ext cx="2831760" cy="127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59520" y="5348160"/>
            <a:ext cx="2832120" cy="127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6120" y="5348160"/>
            <a:ext cx="283176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5348160"/>
            <a:ext cx="2832120" cy="127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4160" y="5348160"/>
            <a:ext cx="283212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59520" y="5348160"/>
            <a:ext cx="283212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4160" y="892080"/>
            <a:ext cx="8637480" cy="438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3680" y="2021040"/>
            <a:ext cx="3079800" cy="52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3680" y="1407960"/>
            <a:ext cx="307980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24120" y="1407960"/>
            <a:ext cx="1035360" cy="1143000"/>
          </a:xfrm>
          <a:prstGeom prst="flowChartDelay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3680" y="3306600"/>
            <a:ext cx="307980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680" y="2693880"/>
            <a:ext cx="307980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24120" y="2693880"/>
            <a:ext cx="1035360" cy="1143000"/>
          </a:xfrm>
          <a:prstGeom prst="flowChartDelay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3680" y="4606920"/>
            <a:ext cx="307980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3680" y="3994200"/>
            <a:ext cx="307980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24120" y="4005360"/>
            <a:ext cx="1035360" cy="1143000"/>
          </a:xfrm>
          <a:prstGeom prst="flowChartDelay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05680" y="2401920"/>
            <a:ext cx="1577880" cy="1743120"/>
          </a:xfrm>
          <a:prstGeom prst="flowChartDelay">
            <a:avLst/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4760" y="2401920"/>
            <a:ext cx="22384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4760" y="3008160"/>
            <a:ext cx="22384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4760" y="3614760"/>
            <a:ext cx="22384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8:54:00Z</dcterms:created>
  <dc:creator>Takeshima Shinichiro</dc:creator>
  <dc:description/>
  <dc:language>en-US</dc:language>
  <cp:lastModifiedBy>Takeshima Shinichiro</cp:lastModifiedBy>
  <dcterms:modified xsi:type="dcterms:W3CDTF">2006-02-25T09:43:47Z</dcterms:modified>
  <cp:revision>3</cp:revision>
  <dc:subject/>
  <dc:title>スライド 1</dc:title>
</cp:coreProperties>
</file>