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CD31-A917-44C3-BACC-013A6824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D984-E646-4077-8E83-B152BE6C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3813-0490-4E66-846D-4B280A60B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5290-53F5-4C3C-8B46-DB85631C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3316-CB98-4CD2-A0B1-131F7A54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3438-30F6-4826-B8CD-76763223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2DB4-8B00-48F9-A7FB-D5D74AA6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9E9B-9DEF-4C2C-8DFF-6439B21F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F8F2-BD11-43D4-8DC9-F0C02C10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CA2A-6E49-44A9-A968-9F037C5F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4313-AA0B-4AD0-85FD-531EDB34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8740-4E73-438C-82BA-4A2AB0CD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1B13-AA58-4728-AFE4-F38AD2EBF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54320" y="5613480"/>
            <a:ext cx="2832120" cy="102528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58080" y="5613480"/>
            <a:ext cx="2831760" cy="102528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54320" y="5613480"/>
            <a:ext cx="2832120" cy="24264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2360" y="5613480"/>
            <a:ext cx="2832120" cy="102528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360" y="5613480"/>
            <a:ext cx="2832120" cy="24264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58080" y="5613480"/>
            <a:ext cx="2831760" cy="24264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82760" y="903240"/>
            <a:ext cx="7507080" cy="464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2360" y="903240"/>
            <a:ext cx="1060560" cy="464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92200" y="1814400"/>
            <a:ext cx="6097680" cy="3587760"/>
          </a:xfrm>
          <a:custGeom>
            <a:avLst/>
            <a:gdLst>
              <a:gd name="textAreaLeft" fmla="*/ 0 w 6097680"/>
              <a:gd name="textAreaRight" fmla="*/ 6098040 w 6097680"/>
              <a:gd name="textAreaTop" fmla="*/ 0 h 3587760"/>
              <a:gd name="textAreaBottom" fmla="*/ 3588120 h 358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10800000"/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68960" y="3222720"/>
            <a:ext cx="1731960" cy="769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92800" y="2813040"/>
            <a:ext cx="1589400" cy="158904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89040" y="1928880"/>
            <a:ext cx="1731960" cy="77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89040" y="2759040"/>
            <a:ext cx="1731960" cy="77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2344680"/>
            <a:ext cx="1731960" cy="77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89040" y="3686040"/>
            <a:ext cx="1731960" cy="77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89040" y="4516560"/>
            <a:ext cx="1731960" cy="769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4102200"/>
            <a:ext cx="1731960" cy="769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3:57:08Z</dcterms:created>
  <dc:creator>Takeshima Shinichiro</dc:creator>
  <dc:description/>
  <dc:language>en-US</dc:language>
  <cp:lastModifiedBy>Takeshima Shinichiro</cp:lastModifiedBy>
  <dcterms:modified xsi:type="dcterms:W3CDTF">2006-02-25T09:44:42Z</dcterms:modified>
  <cp:revision>21</cp:revision>
  <dc:subject/>
  <dc:title>スライド 1</dc:title>
</cp:coreProperties>
</file>