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D13-F690-40AE-A576-DEDF5BFB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101-E07F-4D56-B8F3-016F4DA1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4EF-3BBE-4153-8DAF-37C78087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1CA-01AA-4103-AA22-256ADD56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D30-CA58-4DCB-AD71-7ABB7AD2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1A0-D1E3-4B64-B3AD-5AA7BAAF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46F-491E-4BBD-A70E-E665F8B5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EAE-CBFF-4B50-B8B6-CA861CC3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D84-5360-41CA-AD1D-854C3E72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A24-5EE6-4F3B-85B5-5EF4DB81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3C2-1E4B-4142-A7DB-65146E0D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366-9070-456F-91B5-E6CA868A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BD3E-6940-4357-9F58-171D9FD7F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160" y="1998720"/>
            <a:ext cx="7507080" cy="462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56120" y="907920"/>
            <a:ext cx="283176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59520" y="907920"/>
            <a:ext cx="283212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56120" y="907920"/>
            <a:ext cx="283176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4160" y="907920"/>
            <a:ext cx="283212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4160" y="907920"/>
            <a:ext cx="283212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59520" y="907920"/>
            <a:ext cx="283212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31080" y="1998720"/>
            <a:ext cx="1060560" cy="462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9440" y="2575080"/>
            <a:ext cx="7262640" cy="3889080"/>
          </a:xfrm>
          <a:custGeom>
            <a:avLst/>
            <a:gdLst>
              <a:gd name="textAreaLeft" fmla="*/ 0 w 7262640"/>
              <a:gd name="textAreaRight" fmla="*/ 7263000 w 7262640"/>
              <a:gd name="textAreaTop" fmla="*/ 0 h 3889080"/>
              <a:gd name="textAreaBottom" fmla="*/ 388944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2" y="0"/>
                </a:lnTo>
                <a:lnTo>
                  <a:pt x="21600" y="10800"/>
                </a:lnTo>
                <a:lnTo>
                  <a:pt x="17592" y="21600"/>
                </a:lnTo>
                <a:lnTo>
                  <a:pt x="0" y="21600"/>
                </a:lnTo>
                <a:lnTo>
                  <a:pt x="4008" y="108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4960" y="2930400"/>
            <a:ext cx="1265040" cy="1587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74960" y="4518000"/>
            <a:ext cx="1265040" cy="1587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9600" y="2581200"/>
            <a:ext cx="1541520" cy="19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79600" y="4516560"/>
            <a:ext cx="1541520" cy="19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62520" y="2568600"/>
            <a:ext cx="1539720" cy="1949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861080" y="4517640"/>
            <a:ext cx="1539720" cy="1949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9560" y="365760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79560" y="488484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78000" y="268272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78000" y="585936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75160" y="365760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75160" y="488484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3240" y="2682720"/>
            <a:ext cx="141948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3240" y="5859360"/>
            <a:ext cx="141948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70400" y="3657600"/>
            <a:ext cx="141948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70400" y="4884840"/>
            <a:ext cx="141948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68840" y="268272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68840" y="585936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960" y="4344840"/>
            <a:ext cx="7220160" cy="349560"/>
          </a:xfrm>
          <a:prstGeom prst="rightArrow">
            <a:avLst>
              <a:gd name="adj1" fmla="val 42731"/>
              <a:gd name="adj2" fmla="val 142672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5T09:48:37Z</dcterms:modified>
  <cp:revision>22</cp:revision>
  <dc:subject/>
  <dc:title>スライド 1</dc:title>
</cp:coreProperties>
</file>