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36EC-AB57-4527-8106-EE5207565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13D3-69E5-4151-9143-9053A3169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6B5E-38A8-46D7-BE81-D2A0963FE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8C17-1F1F-4766-899D-D6C97B804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2ACF-2649-4983-9A8E-59B176B45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3B51-6E27-4963-B0FA-97E92A2D8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D085-6954-4FCD-AC5B-E8F9B6E11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2A75-4D9D-4774-931F-AE844572D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17AB-C1E3-4456-AFE4-D742D102D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FA76-260B-43F7-B7BE-FD5E4D37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6DDA-29E1-40F3-8DD9-5573CEB2E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E5A6-1719-4134-AD76-8B27359A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7D0D3-F7F0-4376-BBDE-58A8294312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56120" y="907920"/>
            <a:ext cx="2831760" cy="102564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59520" y="907920"/>
            <a:ext cx="2832120" cy="102564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56120" y="907920"/>
            <a:ext cx="2831760" cy="243000"/>
          </a:xfrm>
          <a:prstGeom prst="rect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4160" y="1998720"/>
            <a:ext cx="8637480" cy="46213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4160" y="907920"/>
            <a:ext cx="2832120" cy="102564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4160" y="907920"/>
            <a:ext cx="2832120" cy="243000"/>
          </a:xfrm>
          <a:prstGeom prst="rect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59520" y="907920"/>
            <a:ext cx="2832120" cy="243000"/>
          </a:xfrm>
          <a:prstGeom prst="rect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23800" y="2575080"/>
            <a:ext cx="8229600" cy="38890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3889080"/>
              <a:gd name="textAreaBottom" fmla="*/ 3889440 h 38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92" y="0"/>
                </a:lnTo>
                <a:lnTo>
                  <a:pt x="21600" y="10800"/>
                </a:lnTo>
                <a:lnTo>
                  <a:pt x="17592" y="21600"/>
                </a:lnTo>
                <a:lnTo>
                  <a:pt x="0" y="21600"/>
                </a:lnTo>
                <a:lnTo>
                  <a:pt x="4008" y="10800"/>
                </a:lnTo>
                <a:close/>
              </a:path>
            </a:pathLst>
          </a:cu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952720" y="2930400"/>
            <a:ext cx="1265400" cy="15876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952720" y="4518000"/>
            <a:ext cx="1265400" cy="15876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324320" y="2581200"/>
            <a:ext cx="1541520" cy="19382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4324320" y="4516560"/>
            <a:ext cx="1541520" cy="19382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973840" y="2568600"/>
            <a:ext cx="1539720" cy="19494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972040" y="4517640"/>
            <a:ext cx="1540080" cy="19494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57680" y="3657600"/>
            <a:ext cx="1419120" cy="492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57680" y="4884840"/>
            <a:ext cx="1419120" cy="492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55760" y="2682720"/>
            <a:ext cx="1419480" cy="492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55760" y="5859360"/>
            <a:ext cx="1419480" cy="492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9520" y="3657600"/>
            <a:ext cx="1419480" cy="492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19520" y="4884840"/>
            <a:ext cx="1419480" cy="492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17960" y="2682720"/>
            <a:ext cx="1419120" cy="492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17960" y="5859360"/>
            <a:ext cx="1419120" cy="492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381720" y="3657600"/>
            <a:ext cx="1419120" cy="492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381720" y="4884840"/>
            <a:ext cx="1419120" cy="492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780160" y="2682720"/>
            <a:ext cx="1419120" cy="492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780160" y="5859360"/>
            <a:ext cx="1419120" cy="492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23800" y="4344840"/>
            <a:ext cx="8180640" cy="349560"/>
          </a:xfrm>
          <a:prstGeom prst="rightArrow">
            <a:avLst>
              <a:gd name="adj1" fmla="val 42731"/>
              <a:gd name="adj2" fmla="val 161652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3840" y="3416400"/>
            <a:ext cx="2373120" cy="2205000"/>
          </a:xfrm>
          <a:custGeom>
            <a:avLst/>
            <a:gdLst>
              <a:gd name="textAreaLeft" fmla="*/ 0 w 2373120"/>
              <a:gd name="textAreaRight" fmla="*/ 2373480 w 2373120"/>
              <a:gd name="textAreaTop" fmla="*/ 0 h 2205000"/>
              <a:gd name="textAreaBottom" fmla="*/ 2205360 h 2205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70" y="0"/>
                </a:lnTo>
                <a:lnTo>
                  <a:pt x="21600" y="10800"/>
                </a:lnTo>
                <a:lnTo>
                  <a:pt x="13870" y="21600"/>
                </a:lnTo>
                <a:lnTo>
                  <a:pt x="0" y="21600"/>
                </a:lnTo>
                <a:lnTo>
                  <a:pt x="7730" y="1080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23:57:08Z</dcterms:created>
  <dc:creator>Takeshima Shinichiro</dc:creator>
  <dc:description/>
  <dc:language>en-US</dc:language>
  <cp:lastModifiedBy>Takeshima Shinichiro</cp:lastModifiedBy>
  <dcterms:modified xsi:type="dcterms:W3CDTF">2006-02-25T09:48:11Z</dcterms:modified>
  <cp:revision>28</cp:revision>
  <dc:subject/>
  <dc:title>スライド 1</dc:title>
</cp:coreProperties>
</file>