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2AC-9CBE-4C66-AA69-B82E0B94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E4D-EC68-4850-A530-3A1E45F6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FD6-DB85-4758-AECB-E431363B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93A-AD97-4B1A-A9CE-FC69A434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412-6596-46E4-B0CB-19BA0D08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C83-7625-445C-BAE4-9D52F82E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5F0-01CA-4B2E-AEF2-728783B0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8DE-F0F9-4565-9FF9-3DCD2B0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970-2A76-430F-BE22-856B8F96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E1B-AFF1-4FDF-A32C-7577854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D79-B99F-4165-B1E4-31FA721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279-40AB-4CD0-A6B7-849902B7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2C2C-4F30-414C-A310-09CAF117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6120" y="907920"/>
            <a:ext cx="283176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5952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6120" y="907920"/>
            <a:ext cx="283176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998720"/>
            <a:ext cx="8637480" cy="462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416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952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5760" y="2503440"/>
            <a:ext cx="7110360" cy="40291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32120" y="3253320"/>
            <a:ext cx="3078000" cy="2527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0360" y="2930400"/>
            <a:ext cx="1265040" cy="1587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70360" y="4518000"/>
            <a:ext cx="1265040" cy="1587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1960" y="2581200"/>
            <a:ext cx="1541160" cy="19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41960" y="4516560"/>
            <a:ext cx="1541160" cy="19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1120" y="2568600"/>
            <a:ext cx="1540080" cy="1949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989680" y="4517640"/>
            <a:ext cx="1539720" cy="1949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4960" y="365760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74960" y="488484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73400" y="268272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3400" y="585936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37160" y="365760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37160" y="488484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5600" y="268272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5600" y="585936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365760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99360" y="488484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7440" y="268272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7440" y="585936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440" y="4343400"/>
            <a:ext cx="8180280" cy="349200"/>
          </a:xfrm>
          <a:prstGeom prst="rightArrow">
            <a:avLst>
              <a:gd name="adj1" fmla="val 42731"/>
              <a:gd name="adj2" fmla="val 161811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5T09:47:37Z</dcterms:modified>
  <cp:revision>24</cp:revision>
  <dc:subject/>
  <dc:title>スライド 1</dc:title>
</cp:coreProperties>
</file>