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616B-F1A6-4640-8497-11407B20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5D5-C47E-4402-A0F4-81BB2D92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C2DB-AF9C-43A9-9101-4CB2C008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DDFA-4D4F-4A92-8F92-06394837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FAAC-EA40-488A-89F6-3BFFF014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F41B-3762-4E19-9255-52A5E44F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FE7-EC27-475C-AA1B-33C501AB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8EE4-7784-4694-B095-32F52931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DF84-1D1C-4A66-A2FF-536378CE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06C-EB06-41ED-929C-79C96965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A347-E2DF-4BC0-94EF-C3C9F0DF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CB0E-0F39-495D-ABD7-66A403CD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1BB7-73C3-4675-A27C-C2640B2489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44360" y="144360"/>
            <a:ext cx="1500120" cy="92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84320" y="189000"/>
            <a:ext cx="1498320" cy="92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23920" y="233280"/>
            <a:ext cx="1498680" cy="92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263520" y="276120"/>
            <a:ext cx="1498680" cy="92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03120" y="320760"/>
            <a:ext cx="1498680" cy="92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直線コネクタ 12"/>
          <p:cNvSpPr/>
          <p:nvPr/>
        </p:nvSpPr>
        <p:spPr>
          <a:xfrm flipH="1">
            <a:off x="711360" y="511200"/>
            <a:ext cx="1440" cy="5396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テキスト ボックス 13"/>
          <p:cNvSpPr/>
          <p:nvPr/>
        </p:nvSpPr>
        <p:spPr>
          <a:xfrm>
            <a:off x="281160" y="396720"/>
            <a:ext cx="46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14"/>
          <p:cNvSpPr/>
          <p:nvPr/>
        </p:nvSpPr>
        <p:spPr>
          <a:xfrm>
            <a:off x="758160" y="53964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15"/>
          <p:cNvSpPr/>
          <p:nvPr/>
        </p:nvSpPr>
        <p:spPr>
          <a:xfrm>
            <a:off x="913680" y="74628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企画の背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線コネクタ 22"/>
          <p:cNvSpPr/>
          <p:nvPr/>
        </p:nvSpPr>
        <p:spPr>
          <a:xfrm>
            <a:off x="0" y="6638760"/>
            <a:ext cx="9144000" cy="18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3490920" y="6499080"/>
            <a:ext cx="2161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ual  Design</a:t>
            </a:r>
            <a:r>
              <a:rPr b="0" i="1" lang="ja-JP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144360" y="144360"/>
            <a:ext cx="1500120" cy="92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4320" y="189000"/>
            <a:ext cx="1498320" cy="92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23920" y="233280"/>
            <a:ext cx="1498680" cy="92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63520" y="276120"/>
            <a:ext cx="1498680" cy="92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線コネクタ 12"/>
          <p:cNvSpPr/>
          <p:nvPr/>
        </p:nvSpPr>
        <p:spPr>
          <a:xfrm flipH="1">
            <a:off x="684360" y="466560"/>
            <a:ext cx="2880" cy="541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13"/>
          <p:cNvSpPr/>
          <p:nvPr/>
        </p:nvSpPr>
        <p:spPr>
          <a:xfrm>
            <a:off x="254160" y="352440"/>
            <a:ext cx="46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グループ化 19"/>
          <p:cNvGrpSpPr/>
          <p:nvPr/>
        </p:nvGrpSpPr>
        <p:grpSpPr>
          <a:xfrm>
            <a:off x="732240" y="495360"/>
            <a:ext cx="680760" cy="483120"/>
            <a:chOff x="732240" y="495360"/>
            <a:chExt cx="680760" cy="483120"/>
          </a:xfrm>
        </p:grpSpPr>
        <p:sp>
          <p:nvSpPr>
            <p:cNvPr id="59" name="テキスト ボックス 14"/>
            <p:cNvSpPr/>
            <p:nvPr/>
          </p:nvSpPr>
          <p:spPr>
            <a:xfrm>
              <a:off x="732240" y="495360"/>
              <a:ext cx="6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nalysi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テキスト ボックス 15"/>
            <p:cNvSpPr/>
            <p:nvPr/>
          </p:nvSpPr>
          <p:spPr>
            <a:xfrm>
              <a:off x="855360" y="7020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Calibri"/>
                </a:rPr>
                <a:t>分析結果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直線コネクタ 17"/>
          <p:cNvSpPr/>
          <p:nvPr/>
        </p:nvSpPr>
        <p:spPr>
          <a:xfrm>
            <a:off x="0" y="6638760"/>
            <a:ext cx="9144000" cy="18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490920" y="6499080"/>
            <a:ext cx="2161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ual  Design</a:t>
            </a:r>
            <a:r>
              <a:rPr b="0" i="1" lang="ja-JP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144360" y="144360"/>
            <a:ext cx="1500120" cy="92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84320" y="189000"/>
            <a:ext cx="1498320" cy="92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223920" y="233280"/>
            <a:ext cx="1498680" cy="92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線コネクタ 12"/>
          <p:cNvSpPr/>
          <p:nvPr/>
        </p:nvSpPr>
        <p:spPr>
          <a:xfrm flipH="1">
            <a:off x="631800" y="412920"/>
            <a:ext cx="1440" cy="54108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13"/>
          <p:cNvSpPr/>
          <p:nvPr/>
        </p:nvSpPr>
        <p:spPr>
          <a:xfrm>
            <a:off x="200160" y="298440"/>
            <a:ext cx="46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グループ化 19"/>
          <p:cNvGrpSpPr/>
          <p:nvPr/>
        </p:nvGrpSpPr>
        <p:grpSpPr>
          <a:xfrm>
            <a:off x="677880" y="441360"/>
            <a:ext cx="725400" cy="483120"/>
            <a:chOff x="677880" y="441360"/>
            <a:chExt cx="725400" cy="483120"/>
          </a:xfrm>
        </p:grpSpPr>
        <p:sp>
          <p:nvSpPr>
            <p:cNvPr id="69" name="テキスト ボックス 14"/>
            <p:cNvSpPr/>
            <p:nvPr/>
          </p:nvSpPr>
          <p:spPr>
            <a:xfrm>
              <a:off x="677880" y="441360"/>
              <a:ext cx="67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oncep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テキスト ボックス 15"/>
            <p:cNvSpPr/>
            <p:nvPr/>
          </p:nvSpPr>
          <p:spPr>
            <a:xfrm>
              <a:off x="765360" y="6480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Calibri"/>
                </a:rPr>
                <a:t>コンセプト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直線コネクタ 11"/>
          <p:cNvSpPr/>
          <p:nvPr/>
        </p:nvSpPr>
        <p:spPr>
          <a:xfrm>
            <a:off x="0" y="6638760"/>
            <a:ext cx="9144000" cy="18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3490920" y="6499080"/>
            <a:ext cx="2161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ual  Design</a:t>
            </a:r>
            <a:r>
              <a:rPr b="0" i="1" lang="ja-JP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144360" y="144360"/>
            <a:ext cx="1500120" cy="92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184320" y="189000"/>
            <a:ext cx="1498320" cy="92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線コネクタ 12"/>
          <p:cNvSpPr/>
          <p:nvPr/>
        </p:nvSpPr>
        <p:spPr>
          <a:xfrm flipH="1">
            <a:off x="587520" y="379440"/>
            <a:ext cx="1440" cy="5396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13"/>
          <p:cNvSpPr/>
          <p:nvPr/>
        </p:nvSpPr>
        <p:spPr>
          <a:xfrm>
            <a:off x="157320" y="264960"/>
            <a:ext cx="46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グループ化 19"/>
          <p:cNvGrpSpPr/>
          <p:nvPr/>
        </p:nvGrpSpPr>
        <p:grpSpPr>
          <a:xfrm>
            <a:off x="634680" y="407880"/>
            <a:ext cx="884880" cy="482400"/>
            <a:chOff x="634680" y="407880"/>
            <a:chExt cx="884880" cy="482400"/>
          </a:xfrm>
        </p:grpSpPr>
        <p:sp>
          <p:nvSpPr>
            <p:cNvPr id="78" name="テキスト ボックス 14"/>
            <p:cNvSpPr/>
            <p:nvPr/>
          </p:nvSpPr>
          <p:spPr>
            <a:xfrm>
              <a:off x="634680" y="407880"/>
              <a:ext cx="88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ction pl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テキスト ボックス 15"/>
            <p:cNvSpPr/>
            <p:nvPr/>
          </p:nvSpPr>
          <p:spPr>
            <a:xfrm>
              <a:off x="757440" y="6138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Calibri"/>
                </a:rPr>
                <a:t>実行計画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直線コネクタ 10"/>
          <p:cNvSpPr/>
          <p:nvPr/>
        </p:nvSpPr>
        <p:spPr>
          <a:xfrm>
            <a:off x="0" y="6638760"/>
            <a:ext cx="9144000" cy="18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3490920" y="6499080"/>
            <a:ext cx="2161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ual  Design</a:t>
            </a:r>
            <a:r>
              <a:rPr b="0" i="1" lang="ja-JP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144360" y="144360"/>
            <a:ext cx="1500120" cy="92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線コネクタ 12"/>
          <p:cNvSpPr/>
          <p:nvPr/>
        </p:nvSpPr>
        <p:spPr>
          <a:xfrm flipH="1">
            <a:off x="550440" y="334800"/>
            <a:ext cx="1800" cy="5400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テキスト ボックス 13"/>
          <p:cNvSpPr/>
          <p:nvPr/>
        </p:nvSpPr>
        <p:spPr>
          <a:xfrm>
            <a:off x="120600" y="220680"/>
            <a:ext cx="46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グループ化 19"/>
          <p:cNvGrpSpPr/>
          <p:nvPr/>
        </p:nvGrpSpPr>
        <p:grpSpPr>
          <a:xfrm>
            <a:off x="592200" y="363600"/>
            <a:ext cx="784080" cy="483120"/>
            <a:chOff x="592200" y="363600"/>
            <a:chExt cx="784080" cy="483120"/>
          </a:xfrm>
        </p:grpSpPr>
        <p:sp>
          <p:nvSpPr>
            <p:cNvPr id="86" name="テキスト ボックス 14"/>
            <p:cNvSpPr/>
            <p:nvPr/>
          </p:nvSpPr>
          <p:spPr>
            <a:xfrm>
              <a:off x="592200" y="36360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otal cos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テキスト ボックス 15"/>
            <p:cNvSpPr/>
            <p:nvPr/>
          </p:nvSpPr>
          <p:spPr>
            <a:xfrm>
              <a:off x="690840" y="57024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Calibri"/>
                </a:rPr>
                <a:t>総予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直線コネクタ 9"/>
          <p:cNvSpPr/>
          <p:nvPr/>
        </p:nvSpPr>
        <p:spPr>
          <a:xfrm>
            <a:off x="0" y="6638760"/>
            <a:ext cx="9144000" cy="18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3490920" y="6499080"/>
            <a:ext cx="2161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ual  Design</a:t>
            </a:r>
            <a:r>
              <a:rPr b="0" i="1" lang="ja-JP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6:32:52Z</dcterms:created>
  <dc:creator>Takeshima Shinichiro</dc:creator>
  <dc:description/>
  <dc:language>en-US</dc:language>
  <cp:lastModifiedBy>Takeshima Shinichiro</cp:lastModifiedBy>
  <dcterms:modified xsi:type="dcterms:W3CDTF">2008-04-05T08:22:02Z</dcterms:modified>
  <cp:revision>18</cp:revision>
  <dc:subject/>
  <dc:title>スライド 1</dc:title>
</cp:coreProperties>
</file>