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55E-F50D-40D1-9E80-FFA3D1BB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686-9CAB-47F3-AECB-25130658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77D-19BC-472F-BDDC-37C1E4EE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7D2-3459-4497-8B2A-B03BB14C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441-FF00-482C-B246-BC5611F3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674-31A9-439D-96ED-95AC3C0A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0CA-7EEB-4FBE-9975-934E4C8A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4C1-6638-4DCD-8F5E-02ED9CAD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366E-7D65-40F5-9FE7-AB70F954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69C-50AA-4EDA-9078-C5501684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EB5-6DDE-4E38-A4FF-752D3CE5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CF1-BDB6-4ABF-8810-F68614D3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117A-67DB-46C8-BC42-3CFB06CA67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円/楕円 9"/>
          <p:cNvSpPr/>
          <p:nvPr/>
        </p:nvSpPr>
        <p:spPr>
          <a:xfrm>
            <a:off x="2119320" y="976320"/>
            <a:ext cx="4905360" cy="490536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パイ 10"/>
          <p:cNvSpPr/>
          <p:nvPr/>
        </p:nvSpPr>
        <p:spPr>
          <a:xfrm>
            <a:off x="-4149720" y="-4149720"/>
            <a:ext cx="8299440" cy="8299440"/>
          </a:xfrm>
          <a:custGeom>
            <a:avLst/>
            <a:gdLst/>
            <a:ahLst/>
            <a:rect l="l" t="t" r="r" b="b"/>
            <a:pathLst>
              <a:path w="8299450" h="8299450">
                <a:moveTo>
                  <a:pt x="8299450" y="4149725"/>
                </a:moveTo>
                <a:cubicBezTo>
                  <a:pt x="8299450" y="5251668"/>
                  <a:pt x="7861164" y="6308363"/>
                  <a:pt x="7081232" y="7086813"/>
                </a:cubicBezTo>
                <a:cubicBezTo>
                  <a:pt x="6301300" y="7865263"/>
                  <a:pt x="5243774" y="8301539"/>
                  <a:pt x="4141833" y="8299443"/>
                </a:cubicBezTo>
                <a:cubicBezTo>
                  <a:pt x="4144464" y="6916204"/>
                  <a:pt x="4147094" y="5532964"/>
                  <a:pt x="4149725" y="4149725"/>
                </a:cubicBezTo>
                <a:lnTo>
                  <a:pt x="8299450" y="41497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パイ 11"/>
          <p:cNvSpPr/>
          <p:nvPr/>
        </p:nvSpPr>
        <p:spPr>
          <a:xfrm>
            <a:off x="-1905120" y="-1913040"/>
            <a:ext cx="3810240" cy="3808440"/>
          </a:xfrm>
          <a:custGeom>
            <a:avLst/>
            <a:gdLst/>
            <a:ahLst/>
            <a:rect l="l" t="t" r="r" b="b"/>
            <a:pathLst>
              <a:path w="3810000" h="3808413">
                <a:moveTo>
                  <a:pt x="3810000" y="1904207"/>
                </a:moveTo>
                <a:cubicBezTo>
                  <a:pt x="3810000" y="2409999"/>
                  <a:pt x="3608689" y="2895010"/>
                  <a:pt x="3250476" y="3252244"/>
                </a:cubicBezTo>
                <a:cubicBezTo>
                  <a:pt x="2892459" y="3609284"/>
                  <a:pt x="2407105" y="3809371"/>
                  <a:pt x="1901378" y="3808410"/>
                </a:cubicBezTo>
                <a:cubicBezTo>
                  <a:pt x="1902585" y="3173676"/>
                  <a:pt x="1903793" y="2538941"/>
                  <a:pt x="1905000" y="1904207"/>
                </a:cubicBezTo>
                <a:lnTo>
                  <a:pt x="3810000" y="1904207"/>
                </a:lnTo>
                <a:close/>
              </a:path>
            </a:pathLst>
          </a:custGeom>
          <a:solidFill>
            <a:srgbClr val="a6a6a6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円/楕円 12"/>
          <p:cNvSpPr/>
          <p:nvPr/>
        </p:nvSpPr>
        <p:spPr>
          <a:xfrm>
            <a:off x="2249640" y="128520"/>
            <a:ext cx="1326960" cy="13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円/楕円 13"/>
          <p:cNvSpPr/>
          <p:nvPr/>
        </p:nvSpPr>
        <p:spPr>
          <a:xfrm>
            <a:off x="1414440" y="1392120"/>
            <a:ext cx="1328760" cy="13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円/楕円 14"/>
          <p:cNvSpPr/>
          <p:nvPr/>
        </p:nvSpPr>
        <p:spPr>
          <a:xfrm>
            <a:off x="142920" y="2217600"/>
            <a:ext cx="1326960" cy="1327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パイ 15"/>
          <p:cNvSpPr/>
          <p:nvPr/>
        </p:nvSpPr>
        <p:spPr>
          <a:xfrm flipH="1" flipV="1">
            <a:off x="4993920" y="2708280"/>
            <a:ext cx="8299440" cy="8299440"/>
          </a:xfrm>
          <a:custGeom>
            <a:avLst/>
            <a:gdLst/>
            <a:ahLst/>
            <a:rect l="l" t="t" r="r" b="b"/>
            <a:pathLst>
              <a:path w="8299450" h="8299450">
                <a:moveTo>
                  <a:pt x="8299450" y="4149725"/>
                </a:moveTo>
                <a:cubicBezTo>
                  <a:pt x="8299450" y="5251668"/>
                  <a:pt x="7861164" y="6308363"/>
                  <a:pt x="7081232" y="7086813"/>
                </a:cubicBezTo>
                <a:cubicBezTo>
                  <a:pt x="6301300" y="7865263"/>
                  <a:pt x="5243774" y="8301539"/>
                  <a:pt x="4141833" y="8299443"/>
                </a:cubicBezTo>
                <a:cubicBezTo>
                  <a:pt x="4144464" y="6916204"/>
                  <a:pt x="4147094" y="5532964"/>
                  <a:pt x="4149725" y="4149725"/>
                </a:cubicBezTo>
                <a:lnTo>
                  <a:pt x="8299450" y="41497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パイ 16"/>
          <p:cNvSpPr/>
          <p:nvPr/>
        </p:nvSpPr>
        <p:spPr>
          <a:xfrm flipH="1" flipV="1">
            <a:off x="7238880" y="4961880"/>
            <a:ext cx="3810240" cy="3808440"/>
          </a:xfrm>
          <a:custGeom>
            <a:avLst/>
            <a:gdLst/>
            <a:ahLst/>
            <a:rect l="l" t="t" r="r" b="b"/>
            <a:pathLst>
              <a:path w="3810000" h="3808413">
                <a:moveTo>
                  <a:pt x="3810000" y="1904207"/>
                </a:moveTo>
                <a:cubicBezTo>
                  <a:pt x="3810000" y="2409999"/>
                  <a:pt x="3608689" y="2895010"/>
                  <a:pt x="3250476" y="3252244"/>
                </a:cubicBezTo>
                <a:cubicBezTo>
                  <a:pt x="2892459" y="3609284"/>
                  <a:pt x="2407105" y="3809371"/>
                  <a:pt x="1901378" y="3808410"/>
                </a:cubicBezTo>
                <a:cubicBezTo>
                  <a:pt x="1902585" y="3173676"/>
                  <a:pt x="1903793" y="2538941"/>
                  <a:pt x="1905000" y="1904207"/>
                </a:cubicBezTo>
                <a:lnTo>
                  <a:pt x="3810000" y="1904207"/>
                </a:lnTo>
                <a:close/>
              </a:path>
            </a:pathLst>
          </a:custGeom>
          <a:solidFill>
            <a:srgbClr val="a6a6a6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円/楕円 17"/>
          <p:cNvSpPr/>
          <p:nvPr/>
        </p:nvSpPr>
        <p:spPr>
          <a:xfrm flipH="1" flipV="1">
            <a:off x="5567400" y="5400000"/>
            <a:ext cx="1326960" cy="13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円/楕円 18"/>
          <p:cNvSpPr/>
          <p:nvPr/>
        </p:nvSpPr>
        <p:spPr>
          <a:xfrm flipH="1" flipV="1">
            <a:off x="6400080" y="4136400"/>
            <a:ext cx="1328760" cy="13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円/楕円 19"/>
          <p:cNvSpPr/>
          <p:nvPr/>
        </p:nvSpPr>
        <p:spPr>
          <a:xfrm flipH="1" flipV="1">
            <a:off x="7674120" y="3312360"/>
            <a:ext cx="1326960" cy="1327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円/楕円 20"/>
          <p:cNvSpPr/>
          <p:nvPr/>
        </p:nvSpPr>
        <p:spPr>
          <a:xfrm>
            <a:off x="2352600" y="2448000"/>
            <a:ext cx="1962360" cy="1963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円/楕円 21"/>
          <p:cNvSpPr/>
          <p:nvPr/>
        </p:nvSpPr>
        <p:spPr>
          <a:xfrm>
            <a:off x="4862520" y="2448000"/>
            <a:ext cx="1963800" cy="1963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直線矢印コネクタ 22"/>
          <p:cNvCxnSpPr/>
          <p:nvPr/>
        </p:nvCxnSpPr>
        <p:spPr>
          <a:xfrm>
            <a:off x="4314600" y="3411360"/>
            <a:ext cx="548280" cy="36000"/>
          </a:xfrm>
          <a:prstGeom prst="straightConnector1">
            <a:avLst/>
          </a:prstGeom>
          <a:ln w="38160">
            <a:solidFill>
              <a:srgbClr val="7f7f7f"/>
            </a:solidFill>
            <a:miter/>
            <a:headEnd len="lg" type="arrow" w="lg"/>
            <a:tailEnd len="lg" type="arrow" w="lg"/>
          </a:ln>
        </p:spPr>
      </p:cxnSp>
      <p:sp>
        <p:nvSpPr>
          <p:cNvPr id="56" name="円/楕円 23"/>
          <p:cNvSpPr/>
          <p:nvPr/>
        </p:nvSpPr>
        <p:spPr>
          <a:xfrm>
            <a:off x="4965840" y="304920"/>
            <a:ext cx="1757160" cy="17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円/楕円 24"/>
          <p:cNvSpPr/>
          <p:nvPr/>
        </p:nvSpPr>
        <p:spPr>
          <a:xfrm>
            <a:off x="2455920" y="4795920"/>
            <a:ext cx="1757160" cy="17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直線矢印コネクタ 25"/>
          <p:cNvCxnSpPr>
            <a:stCxn id="56" idx="4"/>
            <a:endCxn id="54" idx="0"/>
          </p:cNvCxnSpPr>
          <p:nvPr/>
        </p:nvCxnSpPr>
        <p:spPr>
          <a:xfrm>
            <a:off x="5844600" y="2062080"/>
            <a:ext cx="360" cy="38628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lg" type="arrow" w="lg"/>
          </a:ln>
        </p:spPr>
      </p:cxnSp>
      <p:cxnSp>
        <p:nvCxnSpPr>
          <p:cNvPr id="59" name="直線矢印コネクタ 26"/>
          <p:cNvCxnSpPr>
            <a:stCxn id="57" idx="0"/>
            <a:endCxn id="53" idx="4"/>
          </p:cNvCxnSpPr>
          <p:nvPr/>
        </p:nvCxnSpPr>
        <p:spPr>
          <a:xfrm flipH="1" flipV="1">
            <a:off x="3333960" y="4411800"/>
            <a:ext cx="1080" cy="38448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35:57Z</dcterms:created>
  <dc:creator>Takeshima Shinichiro</dc:creator>
  <dc:description/>
  <dc:language>en-US</dc:language>
  <cp:lastModifiedBy>Takeshima Shinichiro</cp:lastModifiedBy>
  <dcterms:modified xsi:type="dcterms:W3CDTF">2011-03-27T04:10:44Z</dcterms:modified>
  <cp:revision>6</cp:revision>
  <dc:subject/>
  <dc:title>PowerPoint プレゼンテーション</dc:title>
</cp:coreProperties>
</file>