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66C7A-72D7-483E-BF82-78C37190E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B033C-EEBC-4A73-8AB1-ADBE7EB02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5EE43-CF8B-4AE1-9478-4338952A7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7542E-7118-4E1B-8D50-CC8392FB2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B7E9D-59A7-4209-9835-B73AB0D60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433CF-2F64-4523-8A9F-DE55E3C8D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7C823-ED0D-4AE2-8B4D-5681BADF0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9B2D6-8072-4AB8-ACFA-B6C334B60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687FD-9722-4BC7-8613-B0BC0653A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768D3-C2EF-4BAA-A899-EC88CD55B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37B9F-5022-45E5-93D9-8FF2519C9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410E8-B2FB-420C-B8C8-FD693CA84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D03B1-A18A-4A3A-AC86-11608C3B007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1"/>
          <p:cNvSpPr/>
          <p:nvPr/>
        </p:nvSpPr>
        <p:spPr>
          <a:xfrm>
            <a:off x="250920" y="825480"/>
            <a:ext cx="4284720" cy="583560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正方形/長方形 2"/>
          <p:cNvSpPr/>
          <p:nvPr/>
        </p:nvSpPr>
        <p:spPr>
          <a:xfrm>
            <a:off x="4608360" y="825480"/>
            <a:ext cx="4284720" cy="583560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台形 3"/>
          <p:cNvSpPr/>
          <p:nvPr/>
        </p:nvSpPr>
        <p:spPr>
          <a:xfrm rot="16200000">
            <a:off x="3699720" y="1470600"/>
            <a:ext cx="5521320" cy="4545000"/>
          </a:xfrm>
          <a:custGeom>
            <a:avLst/>
            <a:gdLst/>
            <a:ahLst/>
            <a:rect l="l" t="t" r="r" b="b"/>
            <a:pathLst>
              <a:path w="5521325" h="4545013">
                <a:moveTo>
                  <a:pt x="0" y="4545013"/>
                </a:moveTo>
                <a:lnTo>
                  <a:pt x="1866864" y="0"/>
                </a:lnTo>
                <a:lnTo>
                  <a:pt x="3654461" y="0"/>
                </a:lnTo>
                <a:lnTo>
                  <a:pt x="5521325" y="4545013"/>
                </a:lnTo>
                <a:lnTo>
                  <a:pt x="0" y="4545013"/>
                </a:lnTo>
                <a:close/>
              </a:path>
            </a:pathLst>
          </a:cu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二等辺三角形 4"/>
          <p:cNvSpPr/>
          <p:nvPr/>
        </p:nvSpPr>
        <p:spPr>
          <a:xfrm rot="5400000">
            <a:off x="419400" y="945000"/>
            <a:ext cx="5523120" cy="5594400"/>
          </a:xfrm>
          <a:prstGeom prst="triangle">
            <a:avLst>
              <a:gd name="adj" fmla="val 50000"/>
            </a:avLst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二等辺三角形 5"/>
          <p:cNvSpPr/>
          <p:nvPr/>
        </p:nvSpPr>
        <p:spPr>
          <a:xfrm rot="5400000">
            <a:off x="4111200" y="2893680"/>
            <a:ext cx="1676160" cy="1698840"/>
          </a:xfrm>
          <a:prstGeom prst="triangle">
            <a:avLst>
              <a:gd name="adj" fmla="val 50000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5T22:35:57Z</dcterms:created>
  <dc:creator>Takeshima Shinichiro</dc:creator>
  <dc:description/>
  <dc:language>en-US</dc:language>
  <cp:lastModifiedBy>Takeshima Shinichiro</cp:lastModifiedBy>
  <dcterms:modified xsi:type="dcterms:W3CDTF">2011-03-27T04:13:05Z</dcterms:modified>
  <cp:revision>5</cp:revision>
  <dc:subject/>
  <dc:title>PowerPoint プレゼンテーション</dc:title>
</cp:coreProperties>
</file>