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0AD-E9BE-4919-A3E6-9945D251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F7C-28B0-4134-8582-390C5756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1FC-C953-4A0E-B6FF-068FB9C5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7EA-7184-420E-9B94-97AF23E4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B390-B288-4428-BFB1-091ACB7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8AC-D25D-4B88-A37A-1BDDAAC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5D5-27E9-4B01-9DC0-F1F24A63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0D49-38BA-4731-923E-CDDB7FEE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DC9-1DF4-4110-9355-A2541068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FBD-5B61-414D-9C71-4611B846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986-7DBA-4260-BAE6-8C17A1DD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E59-8C51-42BD-8BC5-27A558C9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D30C-141B-43EB-804C-BE4B8DEBA8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250920" y="825480"/>
            <a:ext cx="4284720" cy="5835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"/>
          <p:cNvSpPr/>
          <p:nvPr/>
        </p:nvSpPr>
        <p:spPr>
          <a:xfrm>
            <a:off x="4608360" y="825480"/>
            <a:ext cx="4284720" cy="5835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台形 3"/>
          <p:cNvSpPr/>
          <p:nvPr/>
        </p:nvSpPr>
        <p:spPr>
          <a:xfrm rot="16200000">
            <a:off x="3699720" y="1470600"/>
            <a:ext cx="5521320" cy="4545000"/>
          </a:xfrm>
          <a:custGeom>
            <a:avLst/>
            <a:gdLst/>
            <a:ahLst/>
            <a:rect l="l" t="t" r="r" b="b"/>
            <a:pathLst>
              <a:path w="5521325" h="4545013">
                <a:moveTo>
                  <a:pt x="0" y="4545013"/>
                </a:moveTo>
                <a:lnTo>
                  <a:pt x="1866864" y="0"/>
                </a:lnTo>
                <a:lnTo>
                  <a:pt x="3654461" y="0"/>
                </a:lnTo>
                <a:lnTo>
                  <a:pt x="5521325" y="4545013"/>
                </a:lnTo>
                <a:lnTo>
                  <a:pt x="0" y="4545013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二等辺三角形 4"/>
          <p:cNvSpPr/>
          <p:nvPr/>
        </p:nvSpPr>
        <p:spPr>
          <a:xfrm rot="5400000">
            <a:off x="419400" y="945000"/>
            <a:ext cx="5523120" cy="559440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5"/>
          <p:cNvSpPr/>
          <p:nvPr/>
        </p:nvSpPr>
        <p:spPr>
          <a:xfrm rot="5400000">
            <a:off x="4111200" y="2893680"/>
            <a:ext cx="1676160" cy="169884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22:35:57Z</dcterms:created>
  <dc:creator>Takeshima Shinichiro</dc:creator>
  <dc:description/>
  <dc:language>en-US</dc:language>
  <cp:lastModifiedBy>Takeshima Shinichiro</cp:lastModifiedBy>
  <dcterms:modified xsi:type="dcterms:W3CDTF">2011-03-27T04:13:05Z</dcterms:modified>
  <cp:revision>5</cp:revision>
  <dc:subject/>
  <dc:title>PowerPoint プレゼンテーション</dc:title>
</cp:coreProperties>
</file>