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98B-D1DF-4C71-8F4B-74E7BD8C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67A-575B-4847-807D-4028EB46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7FE-857D-4C2A-B1F2-5B944D62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497-88D5-444B-ACE8-8391BDBE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479-C429-4892-A0C5-BDB39B02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2AC-5A5E-4CDA-8DFC-0C671D7B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67A-E255-435A-AA51-BD42AF4F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135-69D8-4322-AE47-CC8D671F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0D2-6332-4129-BFCC-01F4DAB9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71D-E92E-4F30-A14C-8D106ECB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4A0-1891-4981-BA28-0165C170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B6C-38B1-4877-9260-00254C05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E4BD-2EFF-4E85-B26A-FF19B463E2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0" y="144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ドーナツ 3"/>
          <p:cNvSpPr/>
          <p:nvPr/>
        </p:nvSpPr>
        <p:spPr>
          <a:xfrm>
            <a:off x="3672000" y="2530440"/>
            <a:ext cx="1800000" cy="179856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63160 h 1798560"/>
              <a:gd name="textAreaBottom" fmla="*/ 1535400 h 1798560"/>
            </a:gdLst>
            <a:ahLst/>
            <a:rect l="textAreaLeft" t="textAreaTop" r="textAreaRight" b="textAreaBottom"/>
            <a:pathLst>
              <a:path w="1800225" h="1798638">
                <a:moveTo>
                  <a:pt x="0" y="899319"/>
                </a:moveTo>
                <a:lnTo>
                  <a:pt x="0" y="899319"/>
                </a:lnTo>
                <a:arcTo wR="900113" hR="899319" stAng="-10799996" swAng="5400004"/>
                <a:lnTo>
                  <a:pt x="900115" y="1"/>
                </a:lnTo>
                <a:arcTo wR="900113" hR="899319" stAng="-5399996" swAng="5400004"/>
                <a:lnTo>
                  <a:pt x="1800227" y="899322"/>
                </a:lnTo>
                <a:arcTo wR="900113" hR="899319" stAng="0" swAng="5400004"/>
                <a:lnTo>
                  <a:pt x="900113" y="1798641"/>
                </a:lnTo>
                <a:arcTo wR="900113" hR="899319" stAng="5400004" swAng="5400000"/>
                <a:close/>
                <a:moveTo>
                  <a:pt x="98871" y="899319"/>
                </a:moveTo>
                <a:lnTo>
                  <a:pt x="98871" y="899319"/>
                </a:lnTo>
                <a:arcTo wR="801241" hR="800448" stAng="-10799996" swAng="-5400000"/>
                <a:lnTo>
                  <a:pt x="900111" y="1699768"/>
                </a:lnTo>
                <a:arcTo wR="801241" hR="800448" stAng="5400000" swAng="-5400000"/>
                <a:lnTo>
                  <a:pt x="1701352" y="899320"/>
                </a:lnTo>
                <a:arcTo wR="801241" hR="800448" stAng="0" swAng="-5400000"/>
                <a:lnTo>
                  <a:pt x="900111" y="98872"/>
                </a:lnTo>
                <a:arcTo wR="801241" hR="800448" stAng="-5399996" swAng="-5400000"/>
                <a:close/>
              </a:path>
            </a:pathLst>
          </a:custGeom>
          <a:solidFill>
            <a:srgbClr val="bfbfb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直線矢印コネクタ 4"/>
          <p:cNvCxnSpPr/>
          <p:nvPr/>
        </p:nvCxnSpPr>
        <p:spPr>
          <a:xfrm>
            <a:off x="0" y="3429000"/>
            <a:ext cx="3672720" cy="2160"/>
          </a:xfrm>
          <a:prstGeom prst="straightConnector1">
            <a:avLst/>
          </a:prstGeom>
          <a:ln w="28440">
            <a:solidFill>
              <a:srgbClr val="7f7f7f"/>
            </a:solidFill>
            <a:miter/>
          </a:ln>
        </p:spPr>
      </p:cxnSp>
      <p:cxnSp>
        <p:nvCxnSpPr>
          <p:cNvPr id="45" name="直線矢印コネクタ 5"/>
          <p:cNvCxnSpPr/>
          <p:nvPr/>
        </p:nvCxnSpPr>
        <p:spPr>
          <a:xfrm flipH="1">
            <a:off x="5471640" y="3429000"/>
            <a:ext cx="3672720" cy="2160"/>
          </a:xfrm>
          <a:prstGeom prst="straightConnector1">
            <a:avLst/>
          </a:prstGeom>
          <a:ln w="28440">
            <a:solidFill>
              <a:srgbClr val="7f7f7f"/>
            </a:solidFill>
            <a:miter/>
          </a:ln>
        </p:spPr>
      </p:cxnSp>
      <p:cxnSp>
        <p:nvCxnSpPr>
          <p:cNvPr id="46" name="直線矢印コネクタ 6"/>
          <p:cNvCxnSpPr/>
          <p:nvPr/>
        </p:nvCxnSpPr>
        <p:spPr>
          <a:xfrm flipH="1">
            <a:off x="4581000" y="1440"/>
            <a:ext cx="4563360" cy="6858720"/>
          </a:xfrm>
          <a:prstGeom prst="straightConnector1">
            <a:avLst/>
          </a:prstGeom>
          <a:ln w="28440">
            <a:solidFill>
              <a:srgbClr val="7f7f7f"/>
            </a:solidFill>
            <a:miter/>
          </a:ln>
        </p:spPr>
      </p:cxnSp>
      <p:cxnSp>
        <p:nvCxnSpPr>
          <p:cNvPr id="47" name="直線矢印コネクタ 7"/>
          <p:cNvCxnSpPr/>
          <p:nvPr/>
        </p:nvCxnSpPr>
        <p:spPr>
          <a:xfrm>
            <a:off x="0" y="1440"/>
            <a:ext cx="4563360" cy="6858720"/>
          </a:xfrm>
          <a:prstGeom prst="straightConnector1">
            <a:avLst/>
          </a:prstGeom>
          <a:ln w="28440">
            <a:solidFill>
              <a:srgbClr val="7f7f7f"/>
            </a:solidFill>
            <a:miter/>
          </a:ln>
        </p:spPr>
      </p:cxnSp>
      <p:cxnSp>
        <p:nvCxnSpPr>
          <p:cNvPr id="48" name="直線矢印コネクタ 8"/>
          <p:cNvCxnSpPr/>
          <p:nvPr/>
        </p:nvCxnSpPr>
        <p:spPr>
          <a:xfrm flipH="1" flipV="1">
            <a:off x="4570200" y="-720"/>
            <a:ext cx="3600" cy="2529720"/>
          </a:xfrm>
          <a:prstGeom prst="straightConnector1">
            <a:avLst/>
          </a:prstGeom>
          <a:ln w="28440">
            <a:solidFill>
              <a:srgbClr val="7f7f7f"/>
            </a:solidFill>
            <a:miter/>
          </a:ln>
        </p:spPr>
      </p:cxnSp>
      <p:cxnSp>
        <p:nvCxnSpPr>
          <p:cNvPr id="49" name="直線矢印コネクタ 9"/>
          <p:cNvCxnSpPr/>
          <p:nvPr/>
        </p:nvCxnSpPr>
        <p:spPr>
          <a:xfrm>
            <a:off x="4570560" y="4328640"/>
            <a:ext cx="3600" cy="2529720"/>
          </a:xfrm>
          <a:prstGeom prst="straightConnector1">
            <a:avLst/>
          </a:prstGeom>
          <a:ln w="28440">
            <a:solidFill>
              <a:srgbClr val="7f7f7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35:57Z</dcterms:created>
  <dc:creator>Takeshima Shinichiro</dc:creator>
  <dc:description/>
  <dc:language>en-US</dc:language>
  <cp:lastModifiedBy>Takeshima Shinichiro</cp:lastModifiedBy>
  <dcterms:modified xsi:type="dcterms:W3CDTF">2011-03-31T05:28:26Z</dcterms:modified>
  <cp:revision>5</cp:revision>
  <dc:subject/>
  <dc:title>PowerPoint プレゼンテーション</dc:title>
</cp:coreProperties>
</file>