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BB266-502D-4C63-8587-062A030B1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6B28B-4A3E-469A-BA39-36BAE64C9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6AD63-E3BF-4EF4-AEA9-0BAA8BF03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9D13B-8B23-47B6-B9F9-BDE4BFA4D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164E7-8558-4D2D-945E-C2F504537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D16C5-3C56-4D0D-A23F-591AA266F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C22B4-5FF8-42C8-A11D-7BCE793D4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CEEAF-C2A7-438B-AA8E-94CEE8491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41C8F-E104-4854-B819-B89C4FC98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33440-DA19-4A40-BEA0-7F7379BD7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D171A-D221-4E37-92C2-C14494D7D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AB97B-B27B-4B3B-81BD-5C074E6AC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E1F5A-A66F-4D6E-A6AE-9699B4BAE7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11280" y="1392120"/>
            <a:ext cx="6159600" cy="4075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863720" y="4543560"/>
            <a:ext cx="2281320" cy="814320"/>
          </a:xfrm>
          <a:prstGeom prst="ellipse">
            <a:avLst/>
          </a:prstGeom>
          <a:gradFill rotWithShape="0">
            <a:gsLst>
              <a:gs pos="0">
                <a:srgbClr val="757575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035680" y="4543560"/>
            <a:ext cx="2280960" cy="814320"/>
          </a:xfrm>
          <a:prstGeom prst="ellipse">
            <a:avLst/>
          </a:prstGeom>
          <a:gradFill rotWithShape="0">
            <a:gsLst>
              <a:gs pos="0">
                <a:srgbClr val="757575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500200" y="2924280"/>
            <a:ext cx="4179960" cy="41767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c0c0"/>
          </a:solidFill>
          <a:ln w="190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359080" y="2852640"/>
            <a:ext cx="1341360" cy="1339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479920" y="2852640"/>
            <a:ext cx="1341720" cy="1339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19680" y="2187720"/>
            <a:ext cx="1341360" cy="1341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18T09:00:05Z</dcterms:created>
  <dc:creator>Takeshima Shinichirou</dc:creator>
  <dc:description/>
  <dc:language>en-US</dc:language>
  <cp:lastModifiedBy>Takeshima Shinichirou</cp:lastModifiedBy>
  <dcterms:modified xsi:type="dcterms:W3CDTF">2002-01-19T09:56:46Z</dcterms:modified>
  <cp:revision>11</cp:revision>
  <dc:subject/>
  <dc:title>新規</dc:title>
</cp:coreProperties>
</file>