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1D1-CC93-48A8-9BEC-C3CFA654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45B-8FDD-4DB9-9B2B-2FC4C21B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CDA-CADA-4BDE-9FA2-043EF498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1B1-32ED-4D2A-965B-97357AFD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6DF-B208-48CE-A6C8-1B8F6CC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E72-BA1C-4D37-8B14-3C6BCC0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FCD-A51C-4C2A-9E3E-C4DC60AD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86E-7635-4D60-ACD4-914C7905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8B0-4F14-44F2-AD0A-4F25A886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04E-8E1E-4236-9847-F6C3750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E39-86AF-457A-8753-1D716CF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A3E-4629-4EE4-B4CA-0F3201B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8AA8-BC7D-4371-87B2-5700DEC1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43640" y="2338560"/>
            <a:ext cx="2004840" cy="301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1880" y="2338560"/>
            <a:ext cx="2005200" cy="3017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6040" y="2336760"/>
            <a:ext cx="3610080" cy="3021120"/>
          </a:xfrm>
          <a:custGeom>
            <a:avLst/>
            <a:gdLst>
              <a:gd name="textAreaLeft" fmla="*/ 855000 w 3610080"/>
              <a:gd name="textAreaRight" fmla="*/ 2755080 w 3610080"/>
              <a:gd name="textAreaTop" fmla="*/ 0 h 3021120"/>
              <a:gd name="textAreaBottom" fmla="*/ 3021480 h 3021120"/>
            </a:gdLst>
            <a:ahLst/>
            <a:rect l="textAreaLeft" t="textAreaTop" r="textAreaRight" b="textAreaBottom"/>
            <a:pathLst>
              <a:path w="21600" h="21600">
                <a:moveTo>
                  <a:pt x="5116" y="0"/>
                </a:moveTo>
                <a:lnTo>
                  <a:pt x="16484" y="0"/>
                </a:lnTo>
                <a:lnTo>
                  <a:pt x="16484" y="10535"/>
                </a:lnTo>
                <a:lnTo>
                  <a:pt x="17327" y="10535"/>
                </a:lnTo>
                <a:lnTo>
                  <a:pt x="17327" y="0"/>
                </a:lnTo>
                <a:lnTo>
                  <a:pt x="21600" y="10800"/>
                </a:lnTo>
                <a:lnTo>
                  <a:pt x="17327" y="21600"/>
                </a:lnTo>
                <a:lnTo>
                  <a:pt x="17327" y="11065"/>
                </a:lnTo>
                <a:lnTo>
                  <a:pt x="16484" y="11065"/>
                </a:lnTo>
                <a:lnTo>
                  <a:pt x="16484" y="21600"/>
                </a:lnTo>
                <a:lnTo>
                  <a:pt x="5116" y="21600"/>
                </a:lnTo>
                <a:lnTo>
                  <a:pt x="5116" y="11065"/>
                </a:lnTo>
                <a:lnTo>
                  <a:pt x="4273" y="11065"/>
                </a:lnTo>
                <a:lnTo>
                  <a:pt x="4273" y="21600"/>
                </a:lnTo>
                <a:lnTo>
                  <a:pt x="0" y="10800"/>
                </a:lnTo>
                <a:lnTo>
                  <a:pt x="4273" y="0"/>
                </a:lnTo>
                <a:lnTo>
                  <a:pt x="4273" y="10535"/>
                </a:lnTo>
                <a:lnTo>
                  <a:pt x="5116" y="105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3395520"/>
            <a:ext cx="901440" cy="90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8280" y="3395520"/>
            <a:ext cx="903240" cy="90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0640" y="3395520"/>
            <a:ext cx="903240" cy="90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13T05:27:01Z</dcterms:modified>
  <cp:revision>12</cp:revision>
  <dc:subject/>
  <dc:title>新規</dc:title>
</cp:coreProperties>
</file>