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B605-D0EB-49B6-8426-C68C7DE2F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28FF-EEEF-4175-AF75-A5762FC1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B2B0-D8B0-44FB-A8EB-CF3231D3A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22E9-A654-478C-9D89-AA78AAD97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B7FA-F54E-4B03-8D7D-6786ABF1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1646-D781-4624-B8C6-A2DA2A6A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1472-4535-46C3-A106-31DA4A0F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E88C-9A49-4237-BE63-A4FCD70A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0E27-E4F5-422A-8E3D-BA13AF1F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D732-9E67-4E8C-8F0C-A12B5B06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3F5A-820D-4408-9666-1A9DD6A5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428A-F5D4-4A3D-AB57-B05484C0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C551-2BDD-4696-84B1-D0C34581F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11280" y="1392120"/>
            <a:ext cx="6159600" cy="4075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57440" y="2336760"/>
            <a:ext cx="5900760" cy="298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3680" y="2698920"/>
            <a:ext cx="5106960" cy="2482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28960" y="2954160"/>
            <a:ext cx="4275000" cy="20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05320" y="3197160"/>
            <a:ext cx="3519360" cy="1690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17960" y="3403440"/>
            <a:ext cx="2828880" cy="13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92520" y="3659040"/>
            <a:ext cx="2060640" cy="882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21440" y="3851280"/>
            <a:ext cx="1239840" cy="51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51480" y="3608280"/>
            <a:ext cx="998640" cy="998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45040" y="3164040"/>
            <a:ext cx="998640" cy="998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90800" y="2724120"/>
            <a:ext cx="998640" cy="998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23960" y="2276640"/>
            <a:ext cx="998640" cy="998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00280" y="2946240"/>
            <a:ext cx="325440" cy="11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63880" y="3390840"/>
            <a:ext cx="298440" cy="101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10200" y="3827520"/>
            <a:ext cx="368280" cy="129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8T09:00:05Z</dcterms:created>
  <dc:creator>Takeshima Shinichirou</dc:creator>
  <dc:description/>
  <dc:language>en-US</dc:language>
  <cp:lastModifiedBy>Takeshima Shinichirou</cp:lastModifiedBy>
  <dcterms:modified xsi:type="dcterms:W3CDTF">2002-02-05T07:19:26Z</dcterms:modified>
  <cp:revision>11</cp:revision>
  <dc:subject/>
  <dc:title>新規</dc:title>
</cp:coreProperties>
</file>