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092-297B-4079-9EC9-AB220670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7DC-14C7-442E-832B-FAE0DBD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8D3-C29A-46C2-9899-9C5A6A3E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946-E45B-41AE-BD10-1E5A3735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323-A016-41DB-8368-710B322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FC8-0A1F-471D-A0B1-2787183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305-09CF-4E2D-82C4-6034C76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193-0645-4432-A2A5-DAFED80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562-45E6-44B6-82A2-CCBACF9B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250-58AD-4450-9E36-FC1D400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AB7-2C13-4DC8-A390-33AF5B9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27D-6734-4EF7-AB32-5801440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5874-1D76-460B-98CA-71D655467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4120" y="2033640"/>
            <a:ext cx="1265400" cy="126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4440" y="4114800"/>
            <a:ext cx="1265040" cy="126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38680" y="3137040"/>
            <a:ext cx="1266840" cy="126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0080" y="2637000"/>
            <a:ext cx="1974600" cy="1974600"/>
          </a:xfrm>
          <a:prstGeom prst="donut">
            <a:avLst>
              <a:gd name="adj" fmla="val 17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87560" y="4113000"/>
            <a:ext cx="85248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56200" y="2973240"/>
            <a:ext cx="1239840" cy="5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13T05:57:38Z</dcterms:modified>
  <cp:revision>12</cp:revision>
  <dc:subject/>
  <dc:title>新規</dc:title>
</cp:coreProperties>
</file>