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B28-BE80-4A7E-AC03-A777E072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5B9-E9AD-4D15-B80D-C6C48BFF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E26-D750-4B78-8369-E908FCDE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078-B245-4091-B85A-70D4DF84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526-5B65-41BA-BDA5-8480D90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08B-0FE7-4229-83EE-52C7818F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680-926B-435D-966B-F4308B5B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B03-6A3D-4769-BAE6-8D50324D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89B-5B5B-4FDD-881E-ABF2015F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BE2-527D-4331-B64C-8845BD1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1AD-3F74-45D1-A2A2-EEC4AD98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374-0EA9-4387-B085-85E62F8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242E-3863-486D-AF54-5530D9BFC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98760" y="2206800"/>
            <a:ext cx="2386080" cy="2063520"/>
          </a:xfrm>
          <a:prstGeom prst="triangle">
            <a:avLst>
              <a:gd name="adj" fmla="val 50000"/>
            </a:avLst>
          </a:prstGeom>
          <a:solidFill>
            <a:srgbClr val="96969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6160" y="2624040"/>
            <a:ext cx="1871640" cy="81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3246480"/>
            <a:ext cx="2386080" cy="206388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48120" y="3692520"/>
            <a:ext cx="1871640" cy="81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5000" y="3246480"/>
            <a:ext cx="2386080" cy="206388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62040" y="3692520"/>
            <a:ext cx="1872000" cy="81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09:00:05Z</dcterms:created>
  <dc:creator>Takeshima Shinichirou</dc:creator>
  <dc:description/>
  <dc:language>en-US</dc:language>
  <cp:lastModifiedBy>Takeshima Shinichirou</cp:lastModifiedBy>
  <dcterms:modified xsi:type="dcterms:W3CDTF">2002-02-13T06:07:56Z</dcterms:modified>
  <cp:revision>12</cp:revision>
  <dc:subject/>
  <dc:title>新規</dc:title>
</cp:coreProperties>
</file>