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4B0-212C-4143-9416-94FD845D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8D6-3828-4885-A2F6-CDAF58E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FAE-9AD3-4F5E-A0A0-4AB65A6A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20D-666B-4953-8CE3-8D10815D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8A0-74F7-4A95-90E5-8CFF4915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885-13A6-4FE3-A272-DBF78277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C0C-605B-418B-8866-C2C7E561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74B-A7A8-4C9B-88C7-71D35157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BAE-14D1-42D8-9E8D-B26C581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9FB4-784C-48B1-AD42-BA86947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4F3-BCE1-4AC8-A600-71B97B5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725-AA2B-4F16-BE4B-A5288A8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777-2A69-42A3-87EF-F9BEB52E29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44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44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6:19:31Z</dcterms:created>
  <dc:creator>Takeshima Shinichirou</dc:creator>
  <dc:description/>
  <dc:language>en-US</dc:language>
  <cp:lastModifiedBy>Takeshima Shinichirou</cp:lastModifiedBy>
  <dcterms:modified xsi:type="dcterms:W3CDTF">2002-02-11T09:12:50Z</dcterms:modified>
  <cp:revision>2</cp:revision>
  <dc:subject/>
  <dc:title>PowerPoint プレゼンテーション</dc:title>
</cp:coreProperties>
</file>