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528-8905-4684-8D92-AD993584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3F3-4F00-41F9-93BA-54214972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95-23C1-47E1-AAF7-325E9A2F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159-203A-4CA8-A484-F92B20D2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BC5-B496-4DFD-A4DD-60906EDF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1FA-F8E1-49AE-9787-A4EFEB05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FEC-237B-4AA1-9066-47DE44C5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877-6C9A-485A-81BE-C8964E60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478-E81A-4BEF-89AB-0335866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3F5-7172-4AB4-9029-35C5006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D9C-4515-43BC-BABA-05D8B57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C5A-9B13-4DB7-A93D-4D9EBAD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9F1-26C7-427E-B0AD-DD9062AC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906480"/>
            <a:ext cx="4317840" cy="57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906480"/>
            <a:ext cx="4318200" cy="57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906480"/>
            <a:ext cx="4317840" cy="382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906480"/>
            <a:ext cx="4318200" cy="38268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722760" y="3110040"/>
            <a:ext cx="1697040" cy="169704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16200000">
            <a:off x="3722760" y="3110040"/>
            <a:ext cx="1697040" cy="169704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7-01-16T05:07:20Z</dcterms:modified>
  <cp:revision>18</cp:revision>
  <dc:subject/>
  <dc:title>スライド 1</dc:title>
</cp:coreProperties>
</file>