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A4F-6488-4082-AB06-19FA7D15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6D9-6720-4534-8E81-872145C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ABA-6411-4154-9BB5-6E4A34FF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578-E014-4909-A4D5-E2A64B7E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E5D-A63F-46C9-907D-749E4FE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474-451D-4EE9-95A0-071B714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7B2-73A9-4479-8FAE-1660681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E21-892C-4867-84A6-3F8165F0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87A-ADDC-4F3E-8C0C-22F4E20E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1EE-E043-4A34-A398-44D54BB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39A-58E5-41E6-B4DE-9C019F4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DCB-90FA-45E3-94BC-82A34A9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FFD-7F40-4AD1-B8AB-D06F860B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7920"/>
            <a:ext cx="8637480" cy="570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2360" y="1160640"/>
            <a:ext cx="3957840" cy="487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435840" y="2948400"/>
            <a:ext cx="2271960" cy="1638000"/>
          </a:xfrm>
          <a:custGeom>
            <a:avLst/>
            <a:gdLst>
              <a:gd name="textAreaLeft" fmla="*/ 527400 w 2271960"/>
              <a:gd name="textAreaRight" fmla="*/ 1744560 w 2271960"/>
              <a:gd name="textAreaTop" fmla="*/ 380160 h 1638000"/>
              <a:gd name="textAreaBottom" fmla="*/ 1257840 h 16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25" y="21600"/>
                </a:lnTo>
                <a:lnTo>
                  <a:pt x="5875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46720" y="1138320"/>
            <a:ext cx="2575080" cy="5254560"/>
          </a:xfrm>
          <a:prstGeom prst="can">
            <a:avLst>
              <a:gd name="adj" fmla="val 13351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2914560"/>
            <a:ext cx="2575080" cy="1675080"/>
          </a:xfrm>
          <a:prstGeom prst="can">
            <a:avLst>
              <a:gd name="adj" fmla="val 418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2200" y="1123920"/>
            <a:ext cx="2575080" cy="5254560"/>
          </a:xfrm>
          <a:prstGeom prst="can">
            <a:avLst>
              <a:gd name="adj" fmla="val 13351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22200" y="2325600"/>
            <a:ext cx="2575080" cy="2853000"/>
          </a:xfrm>
          <a:prstGeom prst="can">
            <a:avLst>
              <a:gd name="adj" fmla="val 24541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48160" y="3916440"/>
            <a:ext cx="2573640" cy="6984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322360"/>
            <a:ext cx="2573640" cy="6987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2200" y="4513320"/>
            <a:ext cx="2573640" cy="6984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24000" y="5680080"/>
            <a:ext cx="2573280" cy="6984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46720" y="5694480"/>
            <a:ext cx="2573280" cy="6984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0:55:03Z</dcterms:created>
  <dc:creator>Takeshima Shinichiro</dc:creator>
  <dc:description/>
  <dc:language>en-US</dc:language>
  <cp:lastModifiedBy>Takeshima Shinichiro</cp:lastModifiedBy>
  <dcterms:modified xsi:type="dcterms:W3CDTF">2007-01-26T00:33:52Z</dcterms:modified>
  <cp:revision>8</cp:revision>
  <dc:subject/>
  <dc:title>スライド 1</dc:title>
</cp:coreProperties>
</file>