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E5B-3FFA-4C0E-B384-27A945A9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7B7-D700-4F2D-8871-8966A4E2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7D9-6CB4-4FEE-BB89-D4C5D45F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7DF-FF63-4C75-A75E-D3CD7BE9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D2C-6124-44F0-948E-01ABE34A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31B-DAA7-40D8-9499-FCE09EB6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5D0-C0EC-4D6F-B8D2-F717A3B9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E99-5BDD-45B2-8A1F-0CE05F16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242-2EB6-4200-B90B-785D12B1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283-16CF-472C-8A9C-E62D07F6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587-1151-49C4-938C-54B565F1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869-AA72-4892-8342-D59E996D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34D3-B206-4DB6-923F-AD872C712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15840"/>
            <a:ext cx="8637480" cy="570096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" y="915840"/>
            <a:ext cx="8637480" cy="287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06920" y="1271520"/>
            <a:ext cx="4282920" cy="25434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78200" y="1347840"/>
            <a:ext cx="2167200" cy="2388960"/>
          </a:xfrm>
          <a:custGeom>
            <a:avLst/>
            <a:gdLst>
              <a:gd name="textAreaLeft" fmla="*/ 0 w 2167200"/>
              <a:gd name="textAreaRight" fmla="*/ 2167560 w 2167200"/>
              <a:gd name="textAreaTop" fmla="*/ 0 h 2388960"/>
              <a:gd name="textAreaBottom" fmla="*/ 2388960 h 238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360" y="1271520"/>
            <a:ext cx="4283280" cy="25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46360" y="1347840"/>
            <a:ext cx="2322360" cy="2390760"/>
          </a:xfrm>
          <a:prstGeom prst="rightArrowCallout">
            <a:avLst>
              <a:gd name="adj1" fmla="val 16406"/>
              <a:gd name="adj2" fmla="val 25736"/>
              <a:gd name="adj3" fmla="val 10060"/>
              <a:gd name="adj4" fmla="val 77991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7760" y="1347840"/>
            <a:ext cx="2201760" cy="28728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19960" y="1635120"/>
            <a:ext cx="22622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6920" y="4073400"/>
            <a:ext cx="4282920" cy="25434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78200" y="4149720"/>
            <a:ext cx="2167200" cy="2389320"/>
          </a:xfrm>
          <a:custGeom>
            <a:avLst/>
            <a:gdLst>
              <a:gd name="textAreaLeft" fmla="*/ 0 w 2167200"/>
              <a:gd name="textAreaRight" fmla="*/ 2167560 w 2167200"/>
              <a:gd name="textAreaTop" fmla="*/ 0 h 2389320"/>
              <a:gd name="textAreaBottom" fmla="*/ 2389680 h 238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2360" y="4073400"/>
            <a:ext cx="4283280" cy="25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46360" y="4149720"/>
            <a:ext cx="2322360" cy="2390760"/>
          </a:xfrm>
          <a:prstGeom prst="rightArrowCallout">
            <a:avLst>
              <a:gd name="adj1" fmla="val 16406"/>
              <a:gd name="adj2" fmla="val 25736"/>
              <a:gd name="adj3" fmla="val 10060"/>
              <a:gd name="adj4" fmla="val 77991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7760" y="4149720"/>
            <a:ext cx="2201760" cy="28728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19960" y="4437000"/>
            <a:ext cx="22622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4T23:20:32Z</dcterms:modified>
  <cp:revision>24</cp:revision>
  <dc:subject/>
  <dc:title>スライド 1</dc:title>
</cp:coreProperties>
</file>