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AD3B-00E5-43D6-BB74-EB769E78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28DB-D328-4F75-A704-8EB4E739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DBA9-0168-429C-BCFF-46CD7F59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2BF0-D224-40D5-BC81-80F2BC9D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D792-D35E-4F64-9726-07E26EFB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25EE-B37E-4090-AD1C-6D57DDBA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93AC-C526-49CD-B9F6-BA5B0FD9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DA2-B7CD-430E-9ECD-03907214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517F-E9F2-4AD8-88F5-F104AB93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6826-EBA5-470B-98C3-1BFD30E9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2DA-56F5-4E76-820C-BD698D57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E546-F46E-4EB3-B911-0A83AC98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673D-6F74-4DDE-9B3B-2B3B7C53D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907920"/>
            <a:ext cx="8637480" cy="5700960"/>
          </a:xfrm>
          <a:prstGeom prst="rect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77960" y="1195560"/>
            <a:ext cx="1733400" cy="1733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16048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9800000">
            <a:off x="2257560" y="2573280"/>
            <a:ext cx="5883120" cy="2898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296120" y="2120760"/>
            <a:ext cx="398520" cy="3985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6440" y="3454560"/>
            <a:ext cx="2477880" cy="115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6" idx="0"/>
          </p:cNvCxnSpPr>
          <p:nvPr/>
        </p:nvCxnSpPr>
        <p:spPr>
          <a:xfrm>
            <a:off x="1644480" y="2519280"/>
            <a:ext cx="1080" cy="935640"/>
          </a:xfrm>
          <a:prstGeom prst="straightConnector1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</p:cxnSp>
      <p:sp>
        <p:nvSpPr>
          <p:cNvPr id="48" name=""/>
          <p:cNvSpPr/>
          <p:nvPr/>
        </p:nvSpPr>
        <p:spPr>
          <a:xfrm>
            <a:off x="4764240" y="3589200"/>
            <a:ext cx="866520" cy="86688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9280" y="5311800"/>
            <a:ext cx="2477880" cy="115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stCxn id="49" idx="0"/>
            <a:endCxn id="48" idx="4"/>
          </p:cNvCxnSpPr>
          <p:nvPr/>
        </p:nvCxnSpPr>
        <p:spPr>
          <a:xfrm flipH="1" flipV="1">
            <a:off x="5197680" y="4456080"/>
            <a:ext cx="720" cy="856080"/>
          </a:xfrm>
          <a:prstGeom prst="straightConnector1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</p:cxnSp>
      <p:sp>
        <p:nvSpPr>
          <p:cNvPr id="51" name=""/>
          <p:cNvSpPr/>
          <p:nvPr/>
        </p:nvSpPr>
        <p:spPr>
          <a:xfrm>
            <a:off x="6256440" y="3454560"/>
            <a:ext cx="2477880" cy="115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4"/>
            <a:endCxn id="51" idx="0"/>
          </p:cNvCxnSpPr>
          <p:nvPr/>
        </p:nvCxnSpPr>
        <p:spPr>
          <a:xfrm flipH="1">
            <a:off x="7495200" y="2519280"/>
            <a:ext cx="720" cy="935640"/>
          </a:xfrm>
          <a:prstGeom prst="straightConnector1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7-01-24T01:08:02Z</dcterms:modified>
  <cp:revision>20</cp:revision>
  <dc:subject/>
  <dc:title>スライド 1</dc:title>
</cp:coreProperties>
</file>